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8.png" ContentType="image/png"/>
  <Override PartName="/ppt/media/image8.jpeg" ContentType="image/jpe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20.jpeg" ContentType="image/jpeg"/>
  <Override PartName="/ppt/media/image12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7396-C8E1-4A2E-94BC-CDEAA955F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ктеристике поједини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е)поуздан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но све методе са обележаним антителима (некомпетитивне) с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ње вулнерабилне и поузданије од метода са обележаним антигени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A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MA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е су вулнерабилније у погледу ефикасности одвајањ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уоресцеирајућег носиоца информација, а то је најчешће еуропијум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 бити критична хемикалија за одваја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Eu (enhance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A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е су веома вулнерабилне како у погледу микроклиматских ус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бијента, тако и у погледу тренутка прекидања инкубациј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аље су методе где је носилац информације радиоактивни изото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A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сн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MA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јпоузданије мет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е су им низак степен комфора у извођењу, зрачење од 12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ња могућност исплативог извођења појединачних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430B-A7E2-4C91-AF42-1A01877D86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1638-6FA8-4B0A-ADA0-BE78342C22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8290-EA37-4FE1-981E-B5230FC336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5C68-C678-423C-B2E3-AA29C5DE4F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imenjuju se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dva tipa izvora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kontinualnog zra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ja: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termi</a:t>
            </a:r>
            <a:r>
              <a:rPr b="1" lang="sr-Latn-CS" sz="1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ki izvori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) izvori sa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elektri</a:t>
            </a:r>
            <a:r>
              <a:rPr b="1" lang="sr-Latn-CS" sz="1200" spc="-1" strike="noStrike">
                <a:solidFill>
                  <a:srgbClr val="1f497d"/>
                </a:solidFill>
                <a:latin typeface="Calibri"/>
              </a:rPr>
              <a:t>č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nim pra</a:t>
            </a:r>
            <a:r>
              <a:rPr b="1" lang="sr-Latn-CS" sz="1200" spc="-1" strike="noStrike">
                <a:solidFill>
                  <a:srgbClr val="1f497d"/>
                </a:solidFill>
                <a:latin typeface="Calibri"/>
              </a:rPr>
              <a:t>ž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njenj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U termi</a:t>
            </a:r>
            <a:r>
              <a:rPr b="1" lang="sr-Latn-CS" sz="1200" spc="-1" strike="noStrike">
                <a:solidFill>
                  <a:srgbClr val="1f497d"/>
                </a:solidFill>
                <a:latin typeface="Calibri"/>
              </a:rPr>
              <a:t>č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ke izvore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 spadaju </a:t>
            </a: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lampe 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sa zagrevanom </a:t>
            </a: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niti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š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tapi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ć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em ili </a:t>
            </a: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spiral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Zagrevno telo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 je naj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šć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e napravljeno od te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ko 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topljivih metala (W),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 njihovih legura ili </a:t>
            </a: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oksida pojedinih metala.</a:t>
            </a:r>
            <a:r>
              <a:rPr b="1" lang="sr-RS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Usijana nit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 ovih lampi, koje se 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pribli</a:t>
            </a:r>
            <a:r>
              <a:rPr b="1" lang="sr-Latn-CS" sz="1200" spc="-1" strike="noStrike">
                <a:solidFill>
                  <a:srgbClr val="1f497d"/>
                </a:solidFill>
                <a:latin typeface="Calibri"/>
              </a:rPr>
              <a:t>ž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no po</a:t>
            </a:r>
            <a:r>
              <a:rPr b="1" lang="sr-Latn-CS" sz="1200" spc="-1" strike="noStrike">
                <a:solidFill>
                  <a:srgbClr val="1f497d"/>
                </a:solidFill>
                <a:latin typeface="Calibri"/>
              </a:rPr>
              <a:t>n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1" lang="sr-Latn-CS" sz="1200" spc="-1" strike="noStrike">
                <a:solidFill>
                  <a:srgbClr val="1f497d"/>
                </a:solidFill>
                <a:latin typeface="Calibri"/>
              </a:rPr>
              <a:t>š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aju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kao crno telo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, emituju kontinualan spektar sa 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energetskom raspodelom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 koja je odre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ena </a:t>
            </a: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temperaturom te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032E-F305-49E3-80F9-1B0B87633D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4A64-E4AC-4304-994B-40911DE6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01C-E4A5-480B-A8DE-C9F2033C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149-6684-4AD5-A2A7-2E8D5CDE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7FA-5578-4656-B3D9-6E6C45D9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66F6-E66C-4805-840E-0B458FBA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77ED-B35C-4F07-848F-37F2DDC3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0314-A450-4956-BA56-7A60E40C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8A29-1C86-4683-8C16-E01CFC51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8904-C2ED-4A37-BBC3-4A3FA88D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9E47-600B-4EBC-AC44-7A5168A0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07AE-49D1-4C28-A136-4497CD30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3A5E-47F1-4048-90D2-49252C44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B1BD-3FBA-49A2-882A-E615411B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98CD-C4AF-420E-8FB3-79062F68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8C97-9197-465F-8567-47B3328C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8B67-1F30-4C2A-993E-2102DA2F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A884-94EB-4BC2-99CD-40ADEBCB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E89F9-6C03-49D3-9F52-86A3B376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910D0-82DF-449B-A511-613A5B4C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6ACAE-F8BA-4E4F-80FB-562A93AF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E4FF4-B370-496B-BCCD-3B7090A7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475EA-CE7C-4DE7-A21E-2C8BF7C9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F23-0384-47C9-9A14-6B84121D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BBDC2-AE37-4B7D-81BA-4C29C817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E0516-F150-4E60-8A85-880BF6F2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3BE31-240F-4176-96B2-396635F3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5D690-1B30-41B2-BF5B-D4CCA29C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2254A-F810-4AF6-B652-FB6D4CE2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96B22-0B2B-481D-922F-979B6183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42DC8-08B1-43AB-A493-90926C00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F2286-0EE5-49E0-B195-F86BB965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B84AD-6438-4339-9106-077EA9EF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74DF1-CEE4-463D-BB9A-D7D4B105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3A7-F1C6-4701-B57A-67F55988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A80DF-95C4-4163-9BDA-CB91A0A8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A5E8F-D619-4FDF-9109-1C4EF1A2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3D118-CE17-4C60-BE10-CD5F760E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8D72D-3888-4A74-8365-D8FCE024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20382-CE93-40AF-95D8-D8CA8F2F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C0D48-EAE3-4275-B6D9-5B5A22EC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CBF08-B1D6-4B14-9F7F-30296082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A6CC2-038A-4397-9BFE-A1E7CA56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1CDE7-94BC-4437-AA38-7AA91C64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B6A43-4316-452E-9DCE-B2CFEF3A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E3BB-3565-400A-8C97-5C0AC437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C7D24-3EF4-41E1-AD24-C0E2822D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0F6D5-6C68-402C-8B36-184B8FF2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859AB-1F63-4C04-AD13-817B9BF2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4A3D1-2C5E-4BC5-9719-4F79B3F3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8A23B-22DA-41C3-815A-64D51A15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56698-B065-40E3-88E7-87D9FF16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0BB6A-72F2-4282-A4B7-C9F95CC3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32E4D-B2FA-425A-8F27-01E42DAB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E0F31-328A-4374-B9F7-CC1D95C5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1E01B-6714-4E81-A708-9FABF37B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706E-20FE-438D-9358-39B60492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E8FAD-8520-4162-A3E8-31B6D6F3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53421-BBE6-4A0C-AE38-31991B3B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A189C-C5E3-4362-A57C-E7A74D42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6667A-E8EE-431A-BD71-02541041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A14C1-9A64-4486-A575-330E1057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A1278-DF3B-4A96-BD51-9656D29B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CD276-D4A4-482C-B219-FE9D6E67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F618E-2D07-41DD-9415-5D39BF10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6CCBE-AF96-46C3-B351-E0BC33AD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72EE9-AEC1-4689-A2D5-B7AD2407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35B-D8A2-4B8B-B391-F054524C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1F7E7-57D7-40BD-B7E6-45FC3C00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4714B-B92A-43EE-B42C-5C619465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3E93A-211D-426B-8884-A9C23406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6E9AD-DAD5-470E-9385-4414A64F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ED8EB-DE45-4F9B-9C09-318337C4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2C5F5-1603-412F-9AEC-6739CFC4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A1C5B-311B-4D4F-AC14-2650D99B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C7A76-CE09-4089-81F7-AF3087E9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97536-EAE1-4219-A2E0-3D835132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B34C8-0286-4F40-A801-AABF11F8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F98-C12E-4BAB-9264-0E700178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C5566-704E-4DD3-8EAB-19E68716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D019D-9AEC-48B7-A4C1-DA463458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BE31C-388D-4377-830E-1F1F0130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7984D-B397-4A2E-A4EA-A08D089B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C0D97-6F64-4B17-9A19-3154ED7A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F5599-66A3-4508-940A-0996E252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E9BFA-D145-4F94-8168-43B8C212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B176C-E361-41B0-908E-CC2E3CE6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ED4C8-50C1-46A5-ACB7-B7A0E7E1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FA5C5-F5CE-4107-A850-F8A78653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1505-FA0D-4200-8D76-5198027A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0D815-FC8F-4578-8A65-8E1F84EF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CE43F-D84F-4898-9467-84302501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E4C96-4BBA-42E1-A785-F19934C0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2EFB3-275C-43D4-98EE-ADCB2F04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F41B3-FFAA-4FBA-9E80-083CDBDF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9E24D-2EA0-43BF-8E60-8C5A43C6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C3375-09E4-4E50-9173-3FABA4AF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EDBE-13BF-4A99-9330-92D85614AAF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1206360" y="2155680"/>
            <a:ext cx="9753840" cy="277200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219320" y="5048280"/>
            <a:ext cx="975348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1206360" y="2144880"/>
            <a:ext cx="303480" cy="2782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1219320" y="5048280"/>
            <a:ext cx="30456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620720" y="6354360"/>
            <a:ext cx="1625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BA65-13CC-4C8E-BF72-C95C8838B9D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1219320" y="2819520"/>
            <a:ext cx="975348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219320" y="2819520"/>
            <a:ext cx="30456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427040" y="6354360"/>
            <a:ext cx="2027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F223-F908-4BCE-B3BD-48DB33989CA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EEFB-0213-42B0-959A-5575419025F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4405-D0E5-4A2B-8B6B-93DF9A98B42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823752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E8CC-CFF7-4D4E-8EEC-03935BA44D2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609480" y="500040"/>
            <a:ext cx="24300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4790-0120-44C6-B0E4-2DB81FA24451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874224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056E-819A-4875-A944-4ADEA915DEC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0/HPLC_apparatus.svg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en.wikipedia.org/wiki/File:Gas_chromatograph.png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7.png"/><Relationship Id="rId28" Type="http://schemas.openxmlformats.org/officeDocument/2006/relationships/image" Target="../media/image18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0/High_accuracy_Low_precision.svg" TargetMode="External"/><Relationship Id="rId2" Type="http://schemas.openxmlformats.org/officeDocument/2006/relationships/image" Target="../media/image32.png"/><Relationship Id="rId3" Type="http://schemas.openxmlformats.org/officeDocument/2006/relationships/hyperlink" Target="http://upload.wikimedia.org/wikipedia/commons/3/3a/High_precision_Low_accuracy.svg" TargetMode="External"/><Relationship Id="rId4" Type="http://schemas.openxmlformats.org/officeDocument/2006/relationships/image" Target="../media/image33.png"/><Relationship Id="rId5" Type="http://schemas.openxmlformats.org/officeDocument/2006/relationships/hyperlink" Target="http://upload.wikimedia.org/wikipedia/commons/3/38/Accuracy_and_precision.svg" TargetMode="External"/><Relationship Id="rId6" Type="http://schemas.openxmlformats.org/officeDocument/2006/relationships/image" Target="../media/image34.png"/><Relationship Id="rId7" Type="http://schemas.openxmlformats.org/officeDocument/2006/relationships/hyperlink" Target="http://en.wikipedia.org/wiki/Specificity_(tests)" TargetMode="External"/><Relationship Id="rId8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770200" y="5180040"/>
            <a:ext cx="6858000" cy="5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Весна Игњатовић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4918320" y="522360"/>
            <a:ext cx="247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ИАС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Calibri"/>
              </a:rPr>
              <a:t>БИО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itle 1"/>
          <p:cNvSpPr/>
          <p:nvPr/>
        </p:nvSpPr>
        <p:spPr>
          <a:xfrm>
            <a:off x="2550960" y="2335320"/>
            <a:ext cx="6858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АСТАВНА ЈЕДИНИЦА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ЕТОДЕ ЗА ИСПИТИВАЊЕ БИОЛОШКИХ МОЛЕК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Спектроскопске технике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8" name="Content Placeholder 12" descr=""/>
          <p:cNvPicPr/>
          <p:nvPr/>
        </p:nvPicPr>
        <p:blipFill>
          <a:blip r:embed="rId1"/>
          <a:stretch/>
        </p:blipFill>
        <p:spPr>
          <a:xfrm>
            <a:off x="2263680" y="1971720"/>
            <a:ext cx="76644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10972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72920" y="1216080"/>
            <a:ext cx="1079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1. оптичка или електронска спектроскопија-прелази електрона између молекуларних орбитала, промена структуре електронског омотача; спектри у видљивом и ултраљубичастом подручју (100-700 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nm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2. инфрацрвена спинска резонанција-прелази између вибрацијских стања; промена износа електричног диполног момента;спектри у инфрацрвеном подручју (800-10000 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nm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3. електронска спинска резонанција-прелази између спинских стања електрона у магнетском пољу; промена магнетског спинског момента електрона; спектри у подручју микровалова  (1-10 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cm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4. нуклеарна магнетна резонација-прелази између спинских стања језгра у магнетнсом пољу; промена магнетског спинског момента језгра, спектри у подручју радиоталаса ( 1-10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nm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10972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26680" y="1216080"/>
            <a:ext cx="110379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Емисиона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пектроскопиј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Флуоресценција-молекули се побуђују ултравиолетним или ласерским зрачењем, релаксацијом у основно стање емитују зрачење у видљивом подручју. Молекули или веће структуре које немају флуорофоре обележавају се ковалнетним везивањем флуоресцентних проб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09480" y="1219320"/>
            <a:ext cx="1097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лориметрија: П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рењ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ког елемент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иолошкм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теријал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нову апсорпци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ветл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кстинкциј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.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Посто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изуелн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лориметр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људск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фотоелектричн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лориметр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тоћелијом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пектрофотометрија: Савршениј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рм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лориметри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ветлост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лаз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ешетк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ли призм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огућ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зликоват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тери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узетн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ску границ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аласних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ужин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тод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олик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етљив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пецифичн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мерен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динствени апсорпцион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пектр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једин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дињењ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могућу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ако идентификујем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дињењ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дредим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његов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меш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луориметрија: Извесн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дињењ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пособност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псорбују светлосн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нергиј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тим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митуј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весну количин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псорбован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буђен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рми видљив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ветлости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луоресценциј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сфоресценциј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уминисценциј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. Флуориметар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глед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личн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лориметар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и поред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ветлост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очив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еду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имарн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секундарн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лтер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јих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зорак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фотопојачивач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78080" y="2755440"/>
            <a:ext cx="939168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МЕТОДЕ ОДРЕЂИВАЊА КОНЦЕНТРАЦИЈ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БИОЛОШКИ АКТИВНИХ СУПСТАНЦИ У БИОЛОШКОМ МАТЕРИЈАЛУ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27280" y="4266720"/>
            <a:ext cx="904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520560"/>
            <a:ext cx="4864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БИОЛОШКИ АКТИВНЕ СУПСТАНЦЕ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09120" y="1806120"/>
            <a:ext cx="53895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ормон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нзим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укти метаболизм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еков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76520" y="1216080"/>
            <a:ext cx="53881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лазм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ру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иквор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крети и екскрет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ксудат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рансудат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Freeform 4"/>
          <p:cNvSpPr/>
          <p:nvPr/>
        </p:nvSpPr>
        <p:spPr>
          <a:xfrm>
            <a:off x="5999040" y="1143000"/>
            <a:ext cx="1876680" cy="158760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1303" h="1165">
                <a:moveTo>
                  <a:pt x="1071" y="223"/>
                </a:moveTo>
                <a:cubicBezTo>
                  <a:pt x="989" y="171"/>
                  <a:pt x="913" y="107"/>
                  <a:pt x="824" y="67"/>
                </a:cubicBezTo>
                <a:cubicBezTo>
                  <a:pt x="809" y="60"/>
                  <a:pt x="660" y="40"/>
                  <a:pt x="613" y="31"/>
                </a:cubicBezTo>
                <a:cubicBezTo>
                  <a:pt x="546" y="22"/>
                  <a:pt x="486" y="6"/>
                  <a:pt x="431" y="3"/>
                </a:cubicBezTo>
                <a:cubicBezTo>
                  <a:pt x="376" y="0"/>
                  <a:pt x="333" y="1"/>
                  <a:pt x="284" y="13"/>
                </a:cubicBezTo>
                <a:cubicBezTo>
                  <a:pt x="235" y="25"/>
                  <a:pt x="170" y="59"/>
                  <a:pt x="138" y="77"/>
                </a:cubicBezTo>
                <a:cubicBezTo>
                  <a:pt x="123" y="92"/>
                  <a:pt x="104" y="104"/>
                  <a:pt x="92" y="122"/>
                </a:cubicBezTo>
                <a:cubicBezTo>
                  <a:pt x="77" y="144"/>
                  <a:pt x="56" y="195"/>
                  <a:pt x="56" y="195"/>
                </a:cubicBezTo>
                <a:cubicBezTo>
                  <a:pt x="53" y="207"/>
                  <a:pt x="52" y="220"/>
                  <a:pt x="47" y="232"/>
                </a:cubicBezTo>
                <a:cubicBezTo>
                  <a:pt x="43" y="242"/>
                  <a:pt x="28" y="248"/>
                  <a:pt x="28" y="259"/>
                </a:cubicBezTo>
                <a:cubicBezTo>
                  <a:pt x="23" y="385"/>
                  <a:pt x="0" y="595"/>
                  <a:pt x="83" y="717"/>
                </a:cubicBezTo>
                <a:cubicBezTo>
                  <a:pt x="100" y="822"/>
                  <a:pt x="160" y="907"/>
                  <a:pt x="257" y="954"/>
                </a:cubicBezTo>
                <a:cubicBezTo>
                  <a:pt x="289" y="987"/>
                  <a:pt x="318" y="1036"/>
                  <a:pt x="357" y="1055"/>
                </a:cubicBezTo>
                <a:cubicBezTo>
                  <a:pt x="402" y="1077"/>
                  <a:pt x="433" y="1103"/>
                  <a:pt x="476" y="1128"/>
                </a:cubicBezTo>
                <a:cubicBezTo>
                  <a:pt x="515" y="1151"/>
                  <a:pt x="589" y="1108"/>
                  <a:pt x="632" y="1119"/>
                </a:cubicBezTo>
                <a:cubicBezTo>
                  <a:pt x="699" y="1164"/>
                  <a:pt x="638" y="1130"/>
                  <a:pt x="796" y="1146"/>
                </a:cubicBezTo>
                <a:cubicBezTo>
                  <a:pt x="830" y="1150"/>
                  <a:pt x="863" y="1160"/>
                  <a:pt x="897" y="1165"/>
                </a:cubicBezTo>
                <a:cubicBezTo>
                  <a:pt x="964" y="1162"/>
                  <a:pt x="1058" y="1109"/>
                  <a:pt x="1125" y="1101"/>
                </a:cubicBezTo>
                <a:cubicBezTo>
                  <a:pt x="1198" y="1092"/>
                  <a:pt x="1249" y="991"/>
                  <a:pt x="1281" y="927"/>
                </a:cubicBezTo>
                <a:cubicBezTo>
                  <a:pt x="1303" y="836"/>
                  <a:pt x="1299" y="863"/>
                  <a:pt x="1299" y="698"/>
                </a:cubicBezTo>
                <a:cubicBezTo>
                  <a:pt x="1299" y="525"/>
                  <a:pt x="1294" y="260"/>
                  <a:pt x="1107" y="168"/>
                </a:cubicBezTo>
                <a:cubicBezTo>
                  <a:pt x="1053" y="142"/>
                  <a:pt x="990" y="150"/>
                  <a:pt x="933" y="15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5929200" y="39384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БИОЛОШКИ МАТЕРИЈ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File:HPLC apparatu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7720" y="3030480"/>
            <a:ext cx="4905360" cy="219888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8"/>
          <p:cNvGrpSpPr/>
          <p:nvPr/>
        </p:nvGrpSpPr>
        <p:grpSpPr>
          <a:xfrm>
            <a:off x="6543720" y="2676600"/>
            <a:ext cx="3905280" cy="2562120"/>
            <a:chOff x="6543720" y="2676600"/>
            <a:chExt cx="3905280" cy="2562120"/>
          </a:xfrm>
        </p:grpSpPr>
        <p:pic>
          <p:nvPicPr>
            <p:cNvPr id="404" name="Picture 2" descr="http://upload.wikimedia.org/wikipedia/commons/thumb/8/87/Gas_chromatograph.png/350px-Gas_chromatograph.pn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798960" y="3263040"/>
              <a:ext cx="3650040" cy="197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6"/>
            <p:cNvSpPr/>
            <p:nvPr/>
          </p:nvSpPr>
          <p:spPr>
            <a:xfrm>
              <a:off x="6543720" y="2676600"/>
              <a:ext cx="36622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МЕТОДЕ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09480" y="1463400"/>
            <a:ext cx="109728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имунолошке Анализе (методе сепарације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- High Pressure Liquid Chromatography (HPLC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- Gass Chromatography (GH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Хроматографиј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09480" y="1219320"/>
            <a:ext cx="1097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едстављ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тод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аздвајањ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јом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двајај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у заступљен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иолошкој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меш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иво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икограм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рам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 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снов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азличит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рзин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оласк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к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дијум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ом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лекул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елуј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ил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упротном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нденцијом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једн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клоност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лекул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дсорпциј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вршин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покретног медијум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тационарн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фаз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руг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жњ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лекул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астварањ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 растварач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отич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дијум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стој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фаз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ПОКРЕТ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чврст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ч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шовит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КРЕТ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ч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асовит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опушта кроз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покретн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д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њ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Фаз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ирај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њих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твар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обар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ефицијент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асподел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азликујем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псорпцион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оноизмењивачк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стрибуциону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хроматографиј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апир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асн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ел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хроматографиј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Хроматографск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ступак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њ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тив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војств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иолошких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лекул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!!!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2211120" y="447840"/>
            <a:ext cx="191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МЕТ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2199600" y="1998720"/>
            <a:ext cx="52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Имунолошк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Анализ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2534760" y="2597040"/>
            <a:ext cx="473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етити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екомпетитив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ирект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4"/>
          <p:cNvSpPr/>
          <p:nvPr/>
        </p:nvSpPr>
        <p:spPr>
          <a:xfrm>
            <a:off x="1800360" y="1600200"/>
            <a:ext cx="5922720" cy="2333520"/>
          </a:xfrm>
          <a:custGeom>
            <a:avLst/>
            <a:gdLst>
              <a:gd name="textAreaLeft" fmla="*/ 0 w 5922720"/>
              <a:gd name="textAreaRight" fmla="*/ 5923080 w 5922720"/>
              <a:gd name="textAreaTop" fmla="*/ 0 h 2333520"/>
              <a:gd name="textAreaBottom" fmla="*/ 2333880 h 2333520"/>
            </a:gdLst>
            <a:ahLst/>
            <a:rect l="textAreaLeft" t="textAreaTop" r="textAreaRight" b="textAreaBottom"/>
            <a:pathLst>
              <a:path w="1303" h="1165">
                <a:moveTo>
                  <a:pt x="1071" y="223"/>
                </a:moveTo>
                <a:cubicBezTo>
                  <a:pt x="989" y="171"/>
                  <a:pt x="913" y="107"/>
                  <a:pt x="824" y="67"/>
                </a:cubicBezTo>
                <a:cubicBezTo>
                  <a:pt x="809" y="60"/>
                  <a:pt x="660" y="40"/>
                  <a:pt x="613" y="31"/>
                </a:cubicBezTo>
                <a:cubicBezTo>
                  <a:pt x="546" y="22"/>
                  <a:pt x="486" y="6"/>
                  <a:pt x="431" y="3"/>
                </a:cubicBezTo>
                <a:cubicBezTo>
                  <a:pt x="376" y="0"/>
                  <a:pt x="333" y="1"/>
                  <a:pt x="284" y="13"/>
                </a:cubicBezTo>
                <a:cubicBezTo>
                  <a:pt x="235" y="25"/>
                  <a:pt x="170" y="59"/>
                  <a:pt x="138" y="77"/>
                </a:cubicBezTo>
                <a:cubicBezTo>
                  <a:pt x="123" y="92"/>
                  <a:pt x="104" y="104"/>
                  <a:pt x="92" y="122"/>
                </a:cubicBezTo>
                <a:cubicBezTo>
                  <a:pt x="77" y="144"/>
                  <a:pt x="56" y="195"/>
                  <a:pt x="56" y="195"/>
                </a:cubicBezTo>
                <a:cubicBezTo>
                  <a:pt x="53" y="207"/>
                  <a:pt x="52" y="220"/>
                  <a:pt x="47" y="232"/>
                </a:cubicBezTo>
                <a:cubicBezTo>
                  <a:pt x="43" y="242"/>
                  <a:pt x="28" y="248"/>
                  <a:pt x="28" y="259"/>
                </a:cubicBezTo>
                <a:cubicBezTo>
                  <a:pt x="23" y="385"/>
                  <a:pt x="0" y="595"/>
                  <a:pt x="83" y="717"/>
                </a:cubicBezTo>
                <a:cubicBezTo>
                  <a:pt x="100" y="822"/>
                  <a:pt x="160" y="907"/>
                  <a:pt x="257" y="954"/>
                </a:cubicBezTo>
                <a:cubicBezTo>
                  <a:pt x="289" y="987"/>
                  <a:pt x="318" y="1036"/>
                  <a:pt x="357" y="1055"/>
                </a:cubicBezTo>
                <a:cubicBezTo>
                  <a:pt x="402" y="1077"/>
                  <a:pt x="433" y="1103"/>
                  <a:pt x="476" y="1128"/>
                </a:cubicBezTo>
                <a:cubicBezTo>
                  <a:pt x="515" y="1151"/>
                  <a:pt x="589" y="1108"/>
                  <a:pt x="632" y="1119"/>
                </a:cubicBezTo>
                <a:cubicBezTo>
                  <a:pt x="699" y="1164"/>
                  <a:pt x="638" y="1130"/>
                  <a:pt x="796" y="1146"/>
                </a:cubicBezTo>
                <a:cubicBezTo>
                  <a:pt x="830" y="1150"/>
                  <a:pt x="863" y="1160"/>
                  <a:pt x="897" y="1165"/>
                </a:cubicBezTo>
                <a:cubicBezTo>
                  <a:pt x="964" y="1162"/>
                  <a:pt x="1058" y="1109"/>
                  <a:pt x="1125" y="1101"/>
                </a:cubicBezTo>
                <a:cubicBezTo>
                  <a:pt x="1198" y="1092"/>
                  <a:pt x="1249" y="991"/>
                  <a:pt x="1281" y="927"/>
                </a:cubicBezTo>
                <a:cubicBezTo>
                  <a:pt x="1303" y="836"/>
                  <a:pt x="1299" y="863"/>
                  <a:pt x="1299" y="698"/>
                </a:cubicBezTo>
                <a:cubicBezTo>
                  <a:pt x="1299" y="525"/>
                  <a:pt x="1294" y="260"/>
                  <a:pt x="1107" y="168"/>
                </a:cubicBezTo>
                <a:cubicBezTo>
                  <a:pt x="1053" y="142"/>
                  <a:pt x="990" y="150"/>
                  <a:pt x="933" y="15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2435760" y="4311720"/>
            <a:ext cx="59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Висо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ензитивнос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do 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mol/L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Висо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ос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Mo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2205720" y="447840"/>
            <a:ext cx="68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МЕТОД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М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ОБЕЛЕЖИВА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2211480" y="1919160"/>
            <a:ext cx="544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125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H, 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хела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лан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и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 (Eu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, 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, Sm, Dy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луминол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стри акри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нзи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упс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5"/>
          <p:cNvSpPr/>
          <p:nvPr/>
        </p:nvSpPr>
        <p:spPr>
          <a:xfrm>
            <a:off x="1816200" y="2048040"/>
            <a:ext cx="298440" cy="282240"/>
          </a:xfrm>
          <a:custGeom>
            <a:avLst/>
            <a:gdLst/>
            <a:ahLst/>
            <a:rect l="l" t="t" r="r" b="b"/>
            <a:pathLst>
              <a:path w="298450" h="282575">
                <a:moveTo>
                  <a:pt x="0" y="107934"/>
                </a:moveTo>
                <a:lnTo>
                  <a:pt x="113998" y="107935"/>
                </a:lnTo>
                <a:lnTo>
                  <a:pt x="149225" y="0"/>
                </a:lnTo>
                <a:lnTo>
                  <a:pt x="184452" y="107935"/>
                </a:lnTo>
                <a:lnTo>
                  <a:pt x="298450" y="107934"/>
                </a:lnTo>
                <a:lnTo>
                  <a:pt x="206223" y="174640"/>
                </a:lnTo>
                <a:lnTo>
                  <a:pt x="241451" y="282574"/>
                </a:lnTo>
                <a:lnTo>
                  <a:pt x="149225" y="215867"/>
                </a:lnTo>
                <a:lnTo>
                  <a:pt x="56999" y="282574"/>
                </a:lnTo>
                <a:lnTo>
                  <a:pt x="92227" y="174640"/>
                </a:lnTo>
                <a:lnTo>
                  <a:pt x="0" y="10793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65"/>
          <p:cNvSpPr/>
          <p:nvPr/>
        </p:nvSpPr>
        <p:spPr>
          <a:xfrm>
            <a:off x="1797120" y="2552760"/>
            <a:ext cx="298440" cy="282600"/>
          </a:xfrm>
          <a:custGeom>
            <a:avLst/>
            <a:gdLst/>
            <a:ahLst/>
            <a:rect l="l" t="t" r="r" b="b"/>
            <a:pathLst>
              <a:path w="298450" h="282575">
                <a:moveTo>
                  <a:pt x="0" y="107934"/>
                </a:moveTo>
                <a:lnTo>
                  <a:pt x="113998" y="107935"/>
                </a:lnTo>
                <a:lnTo>
                  <a:pt x="149225" y="0"/>
                </a:lnTo>
                <a:lnTo>
                  <a:pt x="184452" y="107935"/>
                </a:lnTo>
                <a:lnTo>
                  <a:pt x="298450" y="107934"/>
                </a:lnTo>
                <a:lnTo>
                  <a:pt x="206223" y="174640"/>
                </a:lnTo>
                <a:lnTo>
                  <a:pt x="241451" y="282574"/>
                </a:lnTo>
                <a:lnTo>
                  <a:pt x="149225" y="215867"/>
                </a:lnTo>
                <a:lnTo>
                  <a:pt x="56999" y="282574"/>
                </a:lnTo>
                <a:lnTo>
                  <a:pt x="92227" y="174640"/>
                </a:lnTo>
                <a:lnTo>
                  <a:pt x="0" y="10793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65"/>
          <p:cNvSpPr/>
          <p:nvPr/>
        </p:nvSpPr>
        <p:spPr>
          <a:xfrm>
            <a:off x="1816200" y="3076560"/>
            <a:ext cx="298440" cy="282600"/>
          </a:xfrm>
          <a:custGeom>
            <a:avLst/>
            <a:gdLst/>
            <a:ahLst/>
            <a:rect l="l" t="t" r="r" b="b"/>
            <a:pathLst>
              <a:path w="298450" h="282575">
                <a:moveTo>
                  <a:pt x="0" y="107934"/>
                </a:moveTo>
                <a:lnTo>
                  <a:pt x="113998" y="107935"/>
                </a:lnTo>
                <a:lnTo>
                  <a:pt x="149225" y="0"/>
                </a:lnTo>
                <a:lnTo>
                  <a:pt x="184452" y="107935"/>
                </a:lnTo>
                <a:lnTo>
                  <a:pt x="298450" y="107934"/>
                </a:lnTo>
                <a:lnTo>
                  <a:pt x="206223" y="174640"/>
                </a:lnTo>
                <a:lnTo>
                  <a:pt x="241451" y="282574"/>
                </a:lnTo>
                <a:lnTo>
                  <a:pt x="149225" y="215867"/>
                </a:lnTo>
                <a:lnTo>
                  <a:pt x="56999" y="282574"/>
                </a:lnTo>
                <a:lnTo>
                  <a:pt x="92227" y="174640"/>
                </a:lnTo>
                <a:lnTo>
                  <a:pt x="0" y="10793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6"/>
          <p:cNvGrpSpPr/>
          <p:nvPr/>
        </p:nvGrpSpPr>
        <p:grpSpPr>
          <a:xfrm>
            <a:off x="7796880" y="1098720"/>
            <a:ext cx="2221920" cy="2430000"/>
            <a:chOff x="7796880" y="1098720"/>
            <a:chExt cx="2221920" cy="2430000"/>
          </a:xfrm>
        </p:grpSpPr>
        <p:sp>
          <p:nvSpPr>
            <p:cNvPr id="421" name="Rectangle 3"/>
            <p:cNvSpPr/>
            <p:nvPr/>
          </p:nvSpPr>
          <p:spPr>
            <a:xfrm>
              <a:off x="7796880" y="1971720"/>
              <a:ext cx="704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"/>
            <p:cNvSpPr/>
            <p:nvPr/>
          </p:nvSpPr>
          <p:spPr>
            <a:xfrm>
              <a:off x="9059400" y="1909800"/>
              <a:ext cx="959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IR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IF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6"/>
            <p:cNvSpPr/>
            <p:nvPr/>
          </p:nvSpPr>
          <p:spPr>
            <a:xfrm>
              <a:off x="7863120" y="1162080"/>
              <a:ext cx="618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65"/>
            <p:cNvSpPr/>
            <p:nvPr/>
          </p:nvSpPr>
          <p:spPr>
            <a:xfrm>
              <a:off x="8997840" y="1143000"/>
              <a:ext cx="298440" cy="282240"/>
            </a:xfrm>
            <a:custGeom>
              <a:avLst/>
              <a:gdLst/>
              <a:ahLst/>
              <a:rect l="l" t="t" r="r" b="b"/>
              <a:pathLst>
                <a:path w="298285" h="282614">
                  <a:moveTo>
                    <a:pt x="0" y="107949"/>
                  </a:moveTo>
                  <a:lnTo>
                    <a:pt x="113935" y="107949"/>
                  </a:lnTo>
                  <a:lnTo>
                    <a:pt x="149143" y="0"/>
                  </a:lnTo>
                  <a:lnTo>
                    <a:pt x="184350" y="107949"/>
                  </a:lnTo>
                  <a:lnTo>
                    <a:pt x="298285" y="107949"/>
                  </a:lnTo>
                  <a:lnTo>
                    <a:pt x="206109" y="174664"/>
                  </a:lnTo>
                  <a:lnTo>
                    <a:pt x="241317" y="282613"/>
                  </a:lnTo>
                  <a:lnTo>
                    <a:pt x="149143" y="215896"/>
                  </a:lnTo>
                  <a:lnTo>
                    <a:pt x="56968" y="282613"/>
                  </a:lnTo>
                  <a:lnTo>
                    <a:pt x="92176" y="174664"/>
                  </a:lnTo>
                  <a:lnTo>
                    <a:pt x="0" y="10794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9245520" y="1098720"/>
              <a:ext cx="688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65"/>
            <p:cNvSpPr/>
            <p:nvPr/>
          </p:nvSpPr>
          <p:spPr>
            <a:xfrm>
              <a:off x="8105760" y="1184400"/>
              <a:ext cx="298440" cy="282240"/>
            </a:xfrm>
            <a:custGeom>
              <a:avLst/>
              <a:gdLst/>
              <a:ahLst/>
              <a:rect l="l" t="t" r="r" b="b"/>
              <a:pathLst>
                <a:path w="298285" h="282614">
                  <a:moveTo>
                    <a:pt x="0" y="107949"/>
                  </a:moveTo>
                  <a:lnTo>
                    <a:pt x="113935" y="107949"/>
                  </a:lnTo>
                  <a:lnTo>
                    <a:pt x="149143" y="0"/>
                  </a:lnTo>
                  <a:lnTo>
                    <a:pt x="184350" y="107949"/>
                  </a:lnTo>
                  <a:lnTo>
                    <a:pt x="298285" y="107949"/>
                  </a:lnTo>
                  <a:lnTo>
                    <a:pt x="206109" y="174664"/>
                  </a:lnTo>
                  <a:lnTo>
                    <a:pt x="241317" y="282613"/>
                  </a:lnTo>
                  <a:lnTo>
                    <a:pt x="149143" y="215896"/>
                  </a:lnTo>
                  <a:lnTo>
                    <a:pt x="56968" y="282613"/>
                  </a:lnTo>
                  <a:lnTo>
                    <a:pt x="92176" y="174664"/>
                  </a:lnTo>
                  <a:lnTo>
                    <a:pt x="0" y="10794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Основне компоненте оптичких инструменат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09480" y="1687320"/>
            <a:ext cx="10972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ви уређаји за оптичку спектроскопију развијени су за анализу интеракције електромагнетног (ЕМ) зрачења и супстанци у видљивом делу спектра – отуда и назив оптички инструмент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нас оптички инструменти укључују инструменте који користе зрачење ултраљубичастог (УВ) и инфрацрвеног (ИР) дела спектра. Уређаји који се користе у ове три области ЕМ зрачења имају сличне делове, док се уређаји који користе зрачење чија је енергија већа од енергије УВ зрачења или мања од енергије ИР зрачења значајно разликују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4305-991A-43C4-8D5E-2AA606620553}" type="slidenum">
              <a:rPr b="0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130320" y="341280"/>
            <a:ext cx="8534160" cy="63705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4"/>
          <p:cNvSpPr/>
          <p:nvPr/>
        </p:nvSpPr>
        <p:spPr>
          <a:xfrm>
            <a:off x="9161640" y="33908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bel prize 19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http://chemeducator.org/bibs/0007002/72012igk_gifs/image002.jpg"/>
          <p:cNvPicPr/>
          <p:nvPr/>
        </p:nvPicPr>
        <p:blipFill>
          <a:blip r:embed="rId2"/>
          <a:stretch/>
        </p:blipFill>
        <p:spPr>
          <a:xfrm>
            <a:off x="9680400" y="341280"/>
            <a:ext cx="2001960" cy="29844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9834480" y="3852720"/>
            <a:ext cx="1695600" cy="223848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1"/>
          <p:cNvSpPr/>
          <p:nvPr/>
        </p:nvSpPr>
        <p:spPr>
          <a:xfrm>
            <a:off x="9163080" y="6188040"/>
            <a:ext cx="27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omon B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09480" y="1219320"/>
            <a:ext cx="10972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зимање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ипрема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зорк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инхибитори</a:t>
            </a:r>
            <a:r>
              <a:rPr b="0" lang="sr-Latn-C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ензимске</a:t>
            </a:r>
            <a:r>
              <a:rPr b="0" lang="sr-Latn-C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sr-Latn-CS" sz="23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концентровање</a:t>
            </a:r>
            <a:r>
              <a:rPr b="0" lang="sr-Latn-CS" sz="23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дилуција</a:t>
            </a:r>
            <a:r>
              <a:rPr b="0" lang="sr-Latn-CS" sz="2300" spc="-1" strike="noStrike">
                <a:solidFill>
                  <a:srgbClr val="000000"/>
                </a:solidFill>
                <a:latin typeface="Gill Sans MT"/>
              </a:rPr>
              <a:t>...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давање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еактаната</a:t>
            </a: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кубациј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парација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езане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везане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азе</a:t>
            </a: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рењ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рачунавањ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4081320" y="49338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Критична фаза због веће могућ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настанка манипулативне гре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ИМУНОМЕТРИЈСКЕ МЕТОДЕ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09480" y="1219320"/>
            <a:ext cx="1097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адиоимунолошк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адиосатурацион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анализ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микроаналитичк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техник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базиран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инципу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еакциј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змеђу биолошк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активни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упстанци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телесним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течностим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пецифичних везујући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отеин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имену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адиоактивни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зотоп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езивн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отеин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АНТИТЕЛ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ПЕЦИФИчН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ТРАНСПОРТН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ОТЕИН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ЕЦЕПТОР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УШТИН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Одређивањ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одређен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материј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ема радиоактивности узорк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епрувет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одливањ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ишк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обележен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материје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mbria"/>
              </a:rPr>
              <a:t>Радиообележивач </a:t>
            </a:r>
            <a:r>
              <a:rPr b="1" lang="en-IN" sz="4000" spc="-1" strike="noStrike">
                <a:solidFill>
                  <a:srgbClr val="000000"/>
                </a:solidFill>
                <a:latin typeface="Bookman Old Style"/>
              </a:rPr>
              <a:t>RIA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09480" y="1142640"/>
            <a:ext cx="11582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600" spc="-1" strike="noStrike" u="sng">
                <a:solidFill>
                  <a:srgbClr val="000000"/>
                </a:solidFill>
                <a:uFillTx/>
                <a:latin typeface="Gill Sans MT"/>
              </a:rPr>
              <a:t>Iodine-125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Емисија нискоенергетских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 γ−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фотона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: 35.4 keV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исоко специфична активнос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реме полураспада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: 6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0 дан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Јод је природни састојак тироксина и тријодтиронина. Може се лако увести у молекуле пептида, стероида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Радиоимунолошка метод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0" name="Picture 5" descr=""/>
          <p:cNvPicPr/>
          <p:nvPr/>
        </p:nvPicPr>
        <p:blipFill>
          <a:blip r:embed="rId1"/>
          <a:stretch/>
        </p:blipFill>
        <p:spPr>
          <a:xfrm>
            <a:off x="5875200" y="385920"/>
            <a:ext cx="5950080" cy="1122120"/>
          </a:xfrm>
          <a:prstGeom prst="rect">
            <a:avLst/>
          </a:prstGeom>
          <a:ln w="0">
            <a:noFill/>
          </a:ln>
        </p:spPr>
      </p:pic>
      <p:pic>
        <p:nvPicPr>
          <p:cNvPr id="441" name="Content Placeholder 8" descr=""/>
          <p:cNvPicPr/>
          <p:nvPr/>
        </p:nvPicPr>
        <p:blipFill>
          <a:blip r:embed="rId2"/>
          <a:stretch/>
        </p:blipFill>
        <p:spPr>
          <a:xfrm>
            <a:off x="285840" y="1638360"/>
            <a:ext cx="79628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Имунорадиометријска метода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7539120" y="279360"/>
            <a:ext cx="3579840" cy="1073160"/>
          </a:xfrm>
          <a:prstGeom prst="rect">
            <a:avLst/>
          </a:prstGeom>
          <a:ln w="0">
            <a:noFill/>
          </a:ln>
        </p:spPr>
      </p:pic>
      <p:pic>
        <p:nvPicPr>
          <p:cNvPr id="444" name="Content Placeholder 6" descr=""/>
          <p:cNvPicPr/>
          <p:nvPr/>
        </p:nvPicPr>
        <p:blipFill>
          <a:blip r:embed="rId2"/>
          <a:stretch/>
        </p:blipFill>
        <p:spPr>
          <a:xfrm>
            <a:off x="378000" y="1477800"/>
            <a:ext cx="7561080" cy="494352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4"/>
          <p:cNvSpPr/>
          <p:nvPr/>
        </p:nvSpPr>
        <p:spPr>
          <a:xfrm>
            <a:off x="8804160" y="2583000"/>
            <a:ext cx="26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рење обележеног аналита, обично антитела, је директно пропорционално количини антигена присутног у узорку- што је више антигена присутно, више обележено г антитела ће се веза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2"/>
          <p:cNvGrpSpPr/>
          <p:nvPr/>
        </p:nvGrpSpPr>
        <p:grpSpPr>
          <a:xfrm>
            <a:off x="7599240" y="1330200"/>
            <a:ext cx="2741760" cy="3656160"/>
            <a:chOff x="7599240" y="1330200"/>
            <a:chExt cx="2741760" cy="3656160"/>
          </a:xfrm>
        </p:grpSpPr>
        <p:sp>
          <p:nvSpPr>
            <p:cNvPr id="447" name="Line 3"/>
            <p:cNvSpPr/>
            <p:nvPr/>
          </p:nvSpPr>
          <p:spPr>
            <a:xfrm>
              <a:off x="7913160" y="249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8" name="Picture 4" descr="Picture4"/>
            <p:cNvPicPr/>
            <p:nvPr/>
          </p:nvPicPr>
          <p:blipFill>
            <a:blip r:embed="rId1"/>
            <a:stretch/>
          </p:blipFill>
          <p:spPr>
            <a:xfrm>
              <a:off x="7599240" y="293832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5" descr="Picture4"/>
            <p:cNvPicPr/>
            <p:nvPr/>
          </p:nvPicPr>
          <p:blipFill>
            <a:blip r:embed="rId2"/>
            <a:stretch/>
          </p:blipFill>
          <p:spPr>
            <a:xfrm>
              <a:off x="7599240" y="451296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6" descr="Picture4"/>
            <p:cNvPicPr/>
            <p:nvPr/>
          </p:nvPicPr>
          <p:blipFill>
            <a:blip r:embed="rId3"/>
            <a:stretch/>
          </p:blipFill>
          <p:spPr>
            <a:xfrm>
              <a:off x="7599240" y="328896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7" descr="Picture4"/>
            <p:cNvPicPr/>
            <p:nvPr/>
          </p:nvPicPr>
          <p:blipFill>
            <a:blip r:embed="rId4"/>
            <a:stretch/>
          </p:blipFill>
          <p:spPr>
            <a:xfrm>
              <a:off x="7599240" y="360504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8" descr="Picture4"/>
            <p:cNvPicPr/>
            <p:nvPr/>
          </p:nvPicPr>
          <p:blipFill>
            <a:blip r:embed="rId5"/>
            <a:stretch/>
          </p:blipFill>
          <p:spPr>
            <a:xfrm>
              <a:off x="7599240" y="388116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9" descr="Picture4"/>
            <p:cNvPicPr/>
            <p:nvPr/>
          </p:nvPicPr>
          <p:blipFill>
            <a:blip r:embed="rId6"/>
            <a:stretch/>
          </p:blipFill>
          <p:spPr>
            <a:xfrm>
              <a:off x="7599240" y="423612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AutoShape 10"/>
            <p:cNvSpPr/>
            <p:nvPr/>
          </p:nvSpPr>
          <p:spPr>
            <a:xfrm>
              <a:off x="7823880" y="360504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Group 11"/>
            <p:cNvGrpSpPr/>
            <p:nvPr/>
          </p:nvGrpSpPr>
          <p:grpSpPr>
            <a:xfrm>
              <a:off x="8767440" y="2577960"/>
              <a:ext cx="258120" cy="320400"/>
              <a:chOff x="8767440" y="2577960"/>
              <a:chExt cx="258120" cy="320400"/>
            </a:xfrm>
          </p:grpSpPr>
          <p:sp>
            <p:nvSpPr>
              <p:cNvPr id="456" name="AutoShape 12"/>
              <p:cNvSpPr/>
              <p:nvPr/>
            </p:nvSpPr>
            <p:spPr>
              <a:xfrm>
                <a:off x="8807040" y="2779200"/>
                <a:ext cx="178920" cy="119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6"/>
                    </a:moveTo>
                    <a:lnTo>
                      <a:pt x="3812" y="3796"/>
                    </a:lnTo>
                    <a:lnTo>
                      <a:pt x="5028" y="0"/>
                    </a:lnTo>
                    <a:lnTo>
                      <a:pt x="6188" y="3796"/>
                    </a:lnTo>
                    <a:lnTo>
                      <a:pt x="10000" y="3796"/>
                    </a:lnTo>
                    <a:lnTo>
                      <a:pt x="6906" y="6204"/>
                    </a:lnTo>
                    <a:lnTo>
                      <a:pt x="8066" y="10000"/>
                    </a:lnTo>
                    <a:lnTo>
                      <a:pt x="5028" y="7664"/>
                    </a:lnTo>
                    <a:lnTo>
                      <a:pt x="1934" y="10000"/>
                    </a:lnTo>
                    <a:lnTo>
                      <a:pt x="3094" y="6204"/>
                    </a:lnTo>
                    <a:lnTo>
                      <a:pt x="0" y="379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7" name="Picture 13" descr="Picture4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8738640" y="2606760"/>
                <a:ext cx="315720" cy="258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58" name="Picture 14" descr="Picture4"/>
            <p:cNvPicPr/>
            <p:nvPr/>
          </p:nvPicPr>
          <p:blipFill>
            <a:blip r:embed="rId8"/>
            <a:stretch/>
          </p:blipFill>
          <p:spPr>
            <a:xfrm>
              <a:off x="7599240" y="269640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15"/>
            <p:cNvSpPr/>
            <p:nvPr/>
          </p:nvSpPr>
          <p:spPr>
            <a:xfrm>
              <a:off x="7823880" y="269640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16"/>
            <p:cNvGrpSpPr/>
            <p:nvPr/>
          </p:nvGrpSpPr>
          <p:grpSpPr>
            <a:xfrm>
              <a:off x="8857800" y="3723480"/>
              <a:ext cx="258480" cy="315720"/>
              <a:chOff x="8857800" y="3723480"/>
              <a:chExt cx="258480" cy="315720"/>
            </a:xfrm>
          </p:grpSpPr>
          <p:pic>
            <p:nvPicPr>
              <p:cNvPr id="461" name="Picture 17" descr="Picture4"/>
              <p:cNvPicPr/>
              <p:nvPr/>
            </p:nvPicPr>
            <p:blipFill>
              <a:blip r:embed="rId9"/>
              <a:stretch/>
            </p:blipFill>
            <p:spPr>
              <a:xfrm rot="5400000">
                <a:off x="8829000" y="3751920"/>
                <a:ext cx="315720" cy="25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AutoShape 18"/>
              <p:cNvSpPr/>
              <p:nvPr/>
            </p:nvSpPr>
            <p:spPr>
              <a:xfrm>
                <a:off x="8902440" y="3726720"/>
                <a:ext cx="179280" cy="119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6"/>
                    </a:moveTo>
                    <a:lnTo>
                      <a:pt x="3812" y="3796"/>
                    </a:lnTo>
                    <a:lnTo>
                      <a:pt x="5028" y="0"/>
                    </a:lnTo>
                    <a:lnTo>
                      <a:pt x="6188" y="3796"/>
                    </a:lnTo>
                    <a:lnTo>
                      <a:pt x="10000" y="3796"/>
                    </a:lnTo>
                    <a:lnTo>
                      <a:pt x="6906" y="6204"/>
                    </a:lnTo>
                    <a:lnTo>
                      <a:pt x="8066" y="10000"/>
                    </a:lnTo>
                    <a:lnTo>
                      <a:pt x="5028" y="7664"/>
                    </a:lnTo>
                    <a:lnTo>
                      <a:pt x="1934" y="10000"/>
                    </a:lnTo>
                    <a:lnTo>
                      <a:pt x="3094" y="6204"/>
                    </a:lnTo>
                    <a:lnTo>
                      <a:pt x="0" y="379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9"/>
            <p:cNvGrpSpPr/>
            <p:nvPr/>
          </p:nvGrpSpPr>
          <p:grpSpPr>
            <a:xfrm>
              <a:off x="8003520" y="3604680"/>
              <a:ext cx="403560" cy="227160"/>
              <a:chOff x="8003520" y="3604680"/>
              <a:chExt cx="403560" cy="227160"/>
            </a:xfrm>
          </p:grpSpPr>
          <p:pic>
            <p:nvPicPr>
              <p:cNvPr id="464" name="Picture 20" descr="Picture4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003520" y="3604680"/>
                <a:ext cx="362880" cy="2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AutoShape 21"/>
              <p:cNvSpPr/>
              <p:nvPr/>
            </p:nvSpPr>
            <p:spPr>
              <a:xfrm>
                <a:off x="8229240" y="3644640"/>
                <a:ext cx="177840" cy="119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6"/>
                    </a:moveTo>
                    <a:lnTo>
                      <a:pt x="3820" y="3796"/>
                    </a:lnTo>
                    <a:lnTo>
                      <a:pt x="5000" y="0"/>
                    </a:lnTo>
                    <a:lnTo>
                      <a:pt x="6180" y="3796"/>
                    </a:lnTo>
                    <a:lnTo>
                      <a:pt x="10000" y="3796"/>
                    </a:lnTo>
                    <a:lnTo>
                      <a:pt x="6910" y="6204"/>
                    </a:lnTo>
                    <a:lnTo>
                      <a:pt x="8090" y="10000"/>
                    </a:lnTo>
                    <a:lnTo>
                      <a:pt x="5000" y="7664"/>
                    </a:lnTo>
                    <a:lnTo>
                      <a:pt x="1910" y="10000"/>
                    </a:lnTo>
                    <a:lnTo>
                      <a:pt x="3090" y="6204"/>
                    </a:lnTo>
                    <a:lnTo>
                      <a:pt x="0" y="379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22"/>
            <p:cNvGrpSpPr/>
            <p:nvPr/>
          </p:nvGrpSpPr>
          <p:grpSpPr>
            <a:xfrm>
              <a:off x="9756360" y="3723480"/>
              <a:ext cx="258480" cy="315720"/>
              <a:chOff x="9756360" y="3723480"/>
              <a:chExt cx="258480" cy="315720"/>
            </a:xfrm>
          </p:grpSpPr>
          <p:pic>
            <p:nvPicPr>
              <p:cNvPr id="467" name="Picture 23" descr="Picture4"/>
              <p:cNvPicPr/>
              <p:nvPr/>
            </p:nvPicPr>
            <p:blipFill>
              <a:blip r:embed="rId11"/>
              <a:stretch/>
            </p:blipFill>
            <p:spPr>
              <a:xfrm rot="5400000">
                <a:off x="9727560" y="3751920"/>
                <a:ext cx="315720" cy="25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AutoShape 24"/>
              <p:cNvSpPr/>
              <p:nvPr/>
            </p:nvSpPr>
            <p:spPr>
              <a:xfrm>
                <a:off x="9800640" y="3726720"/>
                <a:ext cx="179280" cy="119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6"/>
                    </a:moveTo>
                    <a:lnTo>
                      <a:pt x="3812" y="3796"/>
                    </a:lnTo>
                    <a:lnTo>
                      <a:pt x="5028" y="0"/>
                    </a:lnTo>
                    <a:lnTo>
                      <a:pt x="6188" y="3796"/>
                    </a:lnTo>
                    <a:lnTo>
                      <a:pt x="10000" y="3796"/>
                    </a:lnTo>
                    <a:lnTo>
                      <a:pt x="6906" y="6204"/>
                    </a:lnTo>
                    <a:lnTo>
                      <a:pt x="8066" y="10000"/>
                    </a:lnTo>
                    <a:lnTo>
                      <a:pt x="5028" y="7664"/>
                    </a:lnTo>
                    <a:lnTo>
                      <a:pt x="1934" y="10000"/>
                    </a:lnTo>
                    <a:lnTo>
                      <a:pt x="3094" y="6204"/>
                    </a:lnTo>
                    <a:lnTo>
                      <a:pt x="0" y="379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25"/>
            <p:cNvGrpSpPr/>
            <p:nvPr/>
          </p:nvGrpSpPr>
          <p:grpSpPr>
            <a:xfrm>
              <a:off x="9621720" y="4473360"/>
              <a:ext cx="258480" cy="354960"/>
              <a:chOff x="9621720" y="4473360"/>
              <a:chExt cx="258480" cy="354960"/>
            </a:xfrm>
          </p:grpSpPr>
          <p:pic>
            <p:nvPicPr>
              <p:cNvPr id="470" name="Picture 26" descr="Picture4"/>
              <p:cNvPicPr/>
              <p:nvPr/>
            </p:nvPicPr>
            <p:blipFill>
              <a:blip r:embed="rId12"/>
              <a:stretch/>
            </p:blipFill>
            <p:spPr>
              <a:xfrm rot="16200000">
                <a:off x="9594360" y="4500360"/>
                <a:ext cx="312840" cy="25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AutoShape 27"/>
              <p:cNvSpPr/>
              <p:nvPr/>
            </p:nvSpPr>
            <p:spPr>
              <a:xfrm>
                <a:off x="9668160" y="4708080"/>
                <a:ext cx="179280" cy="120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86"/>
                    </a:moveTo>
                    <a:lnTo>
                      <a:pt x="3812" y="3786"/>
                    </a:lnTo>
                    <a:lnTo>
                      <a:pt x="5028" y="0"/>
                    </a:lnTo>
                    <a:lnTo>
                      <a:pt x="6188" y="3786"/>
                    </a:lnTo>
                    <a:lnTo>
                      <a:pt x="10000" y="3786"/>
                    </a:lnTo>
                    <a:lnTo>
                      <a:pt x="6906" y="6214"/>
                    </a:lnTo>
                    <a:lnTo>
                      <a:pt x="8066" y="10000"/>
                    </a:lnTo>
                    <a:lnTo>
                      <a:pt x="5028" y="7643"/>
                    </a:lnTo>
                    <a:lnTo>
                      <a:pt x="1934" y="10000"/>
                    </a:lnTo>
                    <a:lnTo>
                      <a:pt x="3094" y="6214"/>
                    </a:lnTo>
                    <a:lnTo>
                      <a:pt x="0" y="378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8"/>
            <p:cNvSpPr/>
            <p:nvPr/>
          </p:nvSpPr>
          <p:spPr>
            <a:xfrm>
              <a:off x="8992440" y="4354560"/>
              <a:ext cx="26928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29"/>
            <p:cNvSpPr/>
            <p:nvPr/>
          </p:nvSpPr>
          <p:spPr>
            <a:xfrm>
              <a:off x="7823880" y="451296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30"/>
            <p:cNvSpPr/>
            <p:nvPr/>
          </p:nvSpPr>
          <p:spPr>
            <a:xfrm>
              <a:off x="9396720" y="3683520"/>
              <a:ext cx="26928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31"/>
            <p:cNvSpPr/>
            <p:nvPr/>
          </p:nvSpPr>
          <p:spPr>
            <a:xfrm>
              <a:off x="9577080" y="285480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32"/>
            <p:cNvGrpSpPr/>
            <p:nvPr/>
          </p:nvGrpSpPr>
          <p:grpSpPr>
            <a:xfrm>
              <a:off x="7599240" y="1330200"/>
              <a:ext cx="2741760" cy="3656160"/>
              <a:chOff x="7599240" y="1330200"/>
              <a:chExt cx="2741760" cy="3656160"/>
            </a:xfrm>
          </p:grpSpPr>
          <p:sp>
            <p:nvSpPr>
              <p:cNvPr id="477" name="Rectangle 33"/>
              <p:cNvSpPr/>
              <p:nvPr/>
            </p:nvSpPr>
            <p:spPr>
              <a:xfrm>
                <a:off x="7599240" y="1330200"/>
                <a:ext cx="2741760" cy="3656160"/>
              </a:xfrm>
              <a:prstGeom prst="rect">
                <a:avLst/>
              </a:prstGeom>
              <a:noFill/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34"/>
              <p:cNvSpPr/>
              <p:nvPr/>
            </p:nvSpPr>
            <p:spPr>
              <a:xfrm>
                <a:off x="7599240" y="2396160"/>
                <a:ext cx="2741760" cy="2589840"/>
              </a:xfrm>
              <a:prstGeom prst="rect">
                <a:avLst/>
              </a:prstGeom>
              <a:solidFill>
                <a:srgbClr val="727ca3">
                  <a:alpha val="9000"/>
                </a:srgbClr>
              </a:solidFill>
              <a:ln w="9360">
                <a:solidFill>
                  <a:srgbClr val="727c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AutoShape 35"/>
            <p:cNvSpPr/>
            <p:nvPr/>
          </p:nvSpPr>
          <p:spPr>
            <a:xfrm>
              <a:off x="7823160" y="330408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Group 36"/>
            <p:cNvGrpSpPr/>
            <p:nvPr/>
          </p:nvGrpSpPr>
          <p:grpSpPr>
            <a:xfrm>
              <a:off x="7958880" y="2696040"/>
              <a:ext cx="403560" cy="227160"/>
              <a:chOff x="7958880" y="2696040"/>
              <a:chExt cx="403560" cy="227160"/>
            </a:xfrm>
          </p:grpSpPr>
          <p:pic>
            <p:nvPicPr>
              <p:cNvPr id="481" name="Picture 37" descr="Picture4"/>
              <p:cNvPicPr/>
              <p:nvPr/>
            </p:nvPicPr>
            <p:blipFill>
              <a:blip r:embed="rId13"/>
              <a:stretch/>
            </p:blipFill>
            <p:spPr>
              <a:xfrm rot="10800000">
                <a:off x="7958880" y="2696040"/>
                <a:ext cx="359280" cy="2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" name="AutoShape 38"/>
              <p:cNvSpPr/>
              <p:nvPr/>
            </p:nvSpPr>
            <p:spPr>
              <a:xfrm>
                <a:off x="8183520" y="2736000"/>
                <a:ext cx="178920" cy="119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6"/>
                    </a:moveTo>
                    <a:lnTo>
                      <a:pt x="3812" y="3796"/>
                    </a:lnTo>
                    <a:lnTo>
                      <a:pt x="5028" y="0"/>
                    </a:lnTo>
                    <a:lnTo>
                      <a:pt x="6188" y="3796"/>
                    </a:lnTo>
                    <a:lnTo>
                      <a:pt x="10000" y="3796"/>
                    </a:lnTo>
                    <a:lnTo>
                      <a:pt x="6906" y="6204"/>
                    </a:lnTo>
                    <a:lnTo>
                      <a:pt x="8066" y="10000"/>
                    </a:lnTo>
                    <a:lnTo>
                      <a:pt x="5028" y="7664"/>
                    </a:lnTo>
                    <a:lnTo>
                      <a:pt x="1934" y="10000"/>
                    </a:lnTo>
                    <a:lnTo>
                      <a:pt x="3094" y="6204"/>
                    </a:lnTo>
                    <a:lnTo>
                      <a:pt x="0" y="379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39"/>
            <p:cNvGrpSpPr/>
            <p:nvPr/>
          </p:nvGrpSpPr>
          <p:grpSpPr>
            <a:xfrm>
              <a:off x="7958880" y="4512600"/>
              <a:ext cx="403560" cy="227160"/>
              <a:chOff x="7958880" y="4512600"/>
              <a:chExt cx="403560" cy="227160"/>
            </a:xfrm>
          </p:grpSpPr>
          <p:pic>
            <p:nvPicPr>
              <p:cNvPr id="484" name="Picture 40" descr="Picture4"/>
              <p:cNvPicPr/>
              <p:nvPr/>
            </p:nvPicPr>
            <p:blipFill>
              <a:blip r:embed="rId14"/>
              <a:stretch/>
            </p:blipFill>
            <p:spPr>
              <a:xfrm rot="10800000">
                <a:off x="7958880" y="4512600"/>
                <a:ext cx="359280" cy="2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AutoShape 41"/>
              <p:cNvSpPr/>
              <p:nvPr/>
            </p:nvSpPr>
            <p:spPr>
              <a:xfrm>
                <a:off x="8183520" y="4552560"/>
                <a:ext cx="178920" cy="119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6"/>
                    </a:moveTo>
                    <a:lnTo>
                      <a:pt x="3812" y="3796"/>
                    </a:lnTo>
                    <a:lnTo>
                      <a:pt x="5028" y="0"/>
                    </a:lnTo>
                    <a:lnTo>
                      <a:pt x="6188" y="3796"/>
                    </a:lnTo>
                    <a:lnTo>
                      <a:pt x="10000" y="3796"/>
                    </a:lnTo>
                    <a:lnTo>
                      <a:pt x="6906" y="6204"/>
                    </a:lnTo>
                    <a:lnTo>
                      <a:pt x="8066" y="10000"/>
                    </a:lnTo>
                    <a:lnTo>
                      <a:pt x="5028" y="7664"/>
                    </a:lnTo>
                    <a:lnTo>
                      <a:pt x="1934" y="10000"/>
                    </a:lnTo>
                    <a:lnTo>
                      <a:pt x="3094" y="6204"/>
                    </a:lnTo>
                    <a:lnTo>
                      <a:pt x="0" y="379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AutoShape 35"/>
            <p:cNvSpPr/>
            <p:nvPr/>
          </p:nvSpPr>
          <p:spPr>
            <a:xfrm>
              <a:off x="8843760" y="327168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35"/>
            <p:cNvSpPr/>
            <p:nvPr/>
          </p:nvSpPr>
          <p:spPr>
            <a:xfrm>
              <a:off x="7823160" y="425016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35"/>
            <p:cNvSpPr/>
            <p:nvPr/>
          </p:nvSpPr>
          <p:spPr>
            <a:xfrm>
              <a:off x="8546400" y="409104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35"/>
            <p:cNvSpPr/>
            <p:nvPr/>
          </p:nvSpPr>
          <p:spPr>
            <a:xfrm>
              <a:off x="8493120" y="306972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Rectangle 42"/>
          <p:cNvSpPr/>
          <p:nvPr/>
        </p:nvSpPr>
        <p:spPr>
          <a:xfrm>
            <a:off x="7709760" y="765000"/>
            <a:ext cx="226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↔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3"/>
          <p:cNvSpPr/>
          <p:nvPr/>
        </p:nvSpPr>
        <p:spPr>
          <a:xfrm>
            <a:off x="1942200" y="692280"/>
            <a:ext cx="382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↔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88"/>
          <p:cNvGrpSpPr/>
          <p:nvPr/>
        </p:nvGrpSpPr>
        <p:grpSpPr>
          <a:xfrm>
            <a:off x="2082960" y="733320"/>
            <a:ext cx="7727760" cy="4335480"/>
            <a:chOff x="2082960" y="733320"/>
            <a:chExt cx="7727760" cy="4335480"/>
          </a:xfrm>
        </p:grpSpPr>
        <p:pic>
          <p:nvPicPr>
            <p:cNvPr id="493" name="Picture 46" descr="Picture4"/>
            <p:cNvPicPr/>
            <p:nvPr/>
          </p:nvPicPr>
          <p:blipFill>
            <a:blip r:embed="rId15"/>
            <a:stretch/>
          </p:blipFill>
          <p:spPr>
            <a:xfrm>
              <a:off x="2270160" y="291744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7" descr="Picture4"/>
            <p:cNvPicPr/>
            <p:nvPr/>
          </p:nvPicPr>
          <p:blipFill>
            <a:blip r:embed="rId16"/>
            <a:stretch/>
          </p:blipFill>
          <p:spPr>
            <a:xfrm>
              <a:off x="2270160" y="449208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48" descr="Picture4"/>
            <p:cNvPicPr/>
            <p:nvPr/>
          </p:nvPicPr>
          <p:blipFill>
            <a:blip r:embed="rId17"/>
            <a:stretch/>
          </p:blipFill>
          <p:spPr>
            <a:xfrm>
              <a:off x="2270160" y="326844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49" descr="Picture4"/>
            <p:cNvPicPr/>
            <p:nvPr/>
          </p:nvPicPr>
          <p:blipFill>
            <a:blip r:embed="rId18"/>
            <a:stretch/>
          </p:blipFill>
          <p:spPr>
            <a:xfrm>
              <a:off x="2270160" y="358416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50" descr="Picture4"/>
            <p:cNvPicPr/>
            <p:nvPr/>
          </p:nvPicPr>
          <p:blipFill>
            <a:blip r:embed="rId19"/>
            <a:stretch/>
          </p:blipFill>
          <p:spPr>
            <a:xfrm>
              <a:off x="2270160" y="386028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52" descr="Picture4"/>
            <p:cNvPicPr/>
            <p:nvPr/>
          </p:nvPicPr>
          <p:blipFill>
            <a:blip r:embed="rId20"/>
            <a:stretch/>
          </p:blipFill>
          <p:spPr>
            <a:xfrm>
              <a:off x="2270160" y="421524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58" descr="Picture4"/>
            <p:cNvPicPr/>
            <p:nvPr/>
          </p:nvPicPr>
          <p:blipFill>
            <a:blip r:embed="rId21"/>
            <a:stretch/>
          </p:blipFill>
          <p:spPr>
            <a:xfrm>
              <a:off x="2270160" y="267552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0" name="Group 87"/>
            <p:cNvGrpSpPr/>
            <p:nvPr/>
          </p:nvGrpSpPr>
          <p:grpSpPr>
            <a:xfrm>
              <a:off x="2257200" y="1413000"/>
              <a:ext cx="2754360" cy="3655800"/>
              <a:chOff x="2257200" y="1413000"/>
              <a:chExt cx="2754360" cy="3655800"/>
            </a:xfrm>
          </p:grpSpPr>
          <p:sp>
            <p:nvSpPr>
              <p:cNvPr id="501" name="Rectangle 60"/>
              <p:cNvSpPr/>
              <p:nvPr/>
            </p:nvSpPr>
            <p:spPr>
              <a:xfrm>
                <a:off x="2269800" y="1413000"/>
                <a:ext cx="2741760" cy="3655800"/>
              </a:xfrm>
              <a:prstGeom prst="rect">
                <a:avLst/>
              </a:prstGeom>
              <a:noFill/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61"/>
              <p:cNvSpPr/>
              <p:nvPr/>
            </p:nvSpPr>
            <p:spPr>
              <a:xfrm>
                <a:off x="2257200" y="2390760"/>
                <a:ext cx="2754360" cy="2678040"/>
              </a:xfrm>
              <a:prstGeom prst="rect">
                <a:avLst/>
              </a:prstGeom>
              <a:solidFill>
                <a:srgbClr val="727ca3">
                  <a:alpha val="9000"/>
                </a:srgbClr>
              </a:solidFill>
              <a:ln w="9360">
                <a:solidFill>
                  <a:srgbClr val="727c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86"/>
            <p:cNvGrpSpPr/>
            <p:nvPr/>
          </p:nvGrpSpPr>
          <p:grpSpPr>
            <a:xfrm>
              <a:off x="2082960" y="733320"/>
              <a:ext cx="7727760" cy="4035240"/>
              <a:chOff x="2082960" y="733320"/>
              <a:chExt cx="7727760" cy="4035240"/>
            </a:xfrm>
          </p:grpSpPr>
          <p:sp>
            <p:nvSpPr>
              <p:cNvPr id="504" name="Line 45"/>
              <p:cNvSpPr/>
              <p:nvPr/>
            </p:nvSpPr>
            <p:spPr>
              <a:xfrm>
                <a:off x="2584080" y="24789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5" name="Picture 51" descr="Picture4"/>
              <p:cNvPicPr/>
              <p:nvPr/>
            </p:nvPicPr>
            <p:blipFill>
              <a:blip r:embed="rId22"/>
              <a:stretch/>
            </p:blipFill>
            <p:spPr>
              <a:xfrm>
                <a:off x="2539440" y="2754720"/>
                <a:ext cx="3596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Picture 53" descr="Picture4"/>
              <p:cNvPicPr/>
              <p:nvPr/>
            </p:nvPicPr>
            <p:blipFill>
              <a:blip r:embed="rId23"/>
              <a:stretch/>
            </p:blipFill>
            <p:spPr>
              <a:xfrm>
                <a:off x="3213360" y="3504960"/>
                <a:ext cx="359640" cy="226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7" name="Group 54"/>
              <p:cNvGrpSpPr/>
              <p:nvPr/>
            </p:nvGrpSpPr>
            <p:grpSpPr>
              <a:xfrm>
                <a:off x="2764440" y="2754720"/>
                <a:ext cx="269280" cy="197280"/>
                <a:chOff x="2764440" y="2754720"/>
                <a:chExt cx="269280" cy="197280"/>
              </a:xfrm>
            </p:grpSpPr>
            <p:sp>
              <p:nvSpPr>
                <p:cNvPr id="508" name="AutoShape 55"/>
                <p:cNvSpPr/>
                <p:nvPr/>
              </p:nvSpPr>
              <p:spPr>
                <a:xfrm>
                  <a:off x="2764440" y="2754720"/>
                  <a:ext cx="269280" cy="197280"/>
                </a:xfrm>
                <a:prstGeom prst="diamond">
                  <a:avLst/>
                </a:prstGeom>
                <a:solidFill>
                  <a:srgbClr val="727ca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AutoShape 56"/>
                <p:cNvSpPr/>
                <p:nvPr/>
              </p:nvSpPr>
              <p:spPr>
                <a:xfrm>
                  <a:off x="2808000" y="2797920"/>
                  <a:ext cx="179280" cy="1137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17"/>
                      </a:moveTo>
                      <a:lnTo>
                        <a:pt x="3812" y="3817"/>
                      </a:lnTo>
                      <a:lnTo>
                        <a:pt x="5028" y="0"/>
                      </a:lnTo>
                      <a:lnTo>
                        <a:pt x="6188" y="3817"/>
                      </a:lnTo>
                      <a:lnTo>
                        <a:pt x="10000" y="3817"/>
                      </a:lnTo>
                      <a:lnTo>
                        <a:pt x="6906" y="6183"/>
                      </a:lnTo>
                      <a:lnTo>
                        <a:pt x="8066" y="10000"/>
                      </a:lnTo>
                      <a:lnTo>
                        <a:pt x="5028" y="7634"/>
                      </a:lnTo>
                      <a:lnTo>
                        <a:pt x="1934" y="10000"/>
                      </a:lnTo>
                      <a:lnTo>
                        <a:pt x="3094" y="6183"/>
                      </a:lnTo>
                      <a:lnTo>
                        <a:pt x="0" y="381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10" name="Picture 57" descr="Picture4"/>
              <p:cNvPicPr/>
              <p:nvPr/>
            </p:nvPicPr>
            <p:blipFill>
              <a:blip r:embed="rId24"/>
              <a:stretch/>
            </p:blipFill>
            <p:spPr>
              <a:xfrm>
                <a:off x="3798000" y="2715840"/>
                <a:ext cx="258480" cy="31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AutoShape 62"/>
              <p:cNvSpPr/>
              <p:nvPr/>
            </p:nvSpPr>
            <p:spPr>
              <a:xfrm>
                <a:off x="4517280" y="3741840"/>
                <a:ext cx="269280" cy="197280"/>
              </a:xfrm>
              <a:prstGeom prst="diamond">
                <a:avLst/>
              </a:prstGeom>
              <a:solidFill>
                <a:srgbClr val="727c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" name="Group 63"/>
              <p:cNvGrpSpPr/>
              <p:nvPr/>
            </p:nvGrpSpPr>
            <p:grpSpPr>
              <a:xfrm>
                <a:off x="2082960" y="733320"/>
                <a:ext cx="7727760" cy="2218680"/>
                <a:chOff x="2082960" y="733320"/>
                <a:chExt cx="7727760" cy="2218680"/>
              </a:xfrm>
            </p:grpSpPr>
            <p:sp>
              <p:nvSpPr>
                <p:cNvPr id="513" name="AutoShape 64"/>
                <p:cNvSpPr/>
                <p:nvPr/>
              </p:nvSpPr>
              <p:spPr>
                <a:xfrm>
                  <a:off x="3438360" y="2754720"/>
                  <a:ext cx="269280" cy="197280"/>
                </a:xfrm>
                <a:prstGeom prst="diamond">
                  <a:avLst/>
                </a:prstGeom>
                <a:solidFill>
                  <a:srgbClr val="727ca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AutoShape 65"/>
                <p:cNvSpPr/>
                <p:nvPr/>
              </p:nvSpPr>
              <p:spPr>
                <a:xfrm>
                  <a:off x="3483000" y="2798280"/>
                  <a:ext cx="176040" cy="1137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17"/>
                      </a:moveTo>
                      <a:lnTo>
                        <a:pt x="3820" y="3817"/>
                      </a:lnTo>
                      <a:lnTo>
                        <a:pt x="5000" y="0"/>
                      </a:lnTo>
                      <a:lnTo>
                        <a:pt x="6180" y="3817"/>
                      </a:lnTo>
                      <a:lnTo>
                        <a:pt x="10000" y="3817"/>
                      </a:lnTo>
                      <a:lnTo>
                        <a:pt x="6910" y="6183"/>
                      </a:lnTo>
                      <a:lnTo>
                        <a:pt x="8090" y="10000"/>
                      </a:lnTo>
                      <a:lnTo>
                        <a:pt x="5000" y="7634"/>
                      </a:lnTo>
                      <a:lnTo>
                        <a:pt x="1910" y="10000"/>
                      </a:lnTo>
                      <a:lnTo>
                        <a:pt x="3090" y="6183"/>
                      </a:lnTo>
                      <a:lnTo>
                        <a:pt x="0" y="381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AutoShape 65"/>
                <p:cNvSpPr/>
                <p:nvPr/>
              </p:nvSpPr>
              <p:spPr>
                <a:xfrm>
                  <a:off x="2082960" y="733320"/>
                  <a:ext cx="231840" cy="1486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01"/>
                      </a:moveTo>
                      <a:lnTo>
                        <a:pt x="3803" y="3801"/>
                      </a:lnTo>
                      <a:lnTo>
                        <a:pt x="5000" y="0"/>
                      </a:lnTo>
                      <a:lnTo>
                        <a:pt x="6197" y="3801"/>
                      </a:lnTo>
                      <a:lnTo>
                        <a:pt x="10000" y="3801"/>
                      </a:lnTo>
                      <a:lnTo>
                        <a:pt x="6923" y="6199"/>
                      </a:lnTo>
                      <a:lnTo>
                        <a:pt x="8077" y="10000"/>
                      </a:lnTo>
                      <a:lnTo>
                        <a:pt x="5000" y="7661"/>
                      </a:lnTo>
                      <a:lnTo>
                        <a:pt x="1923" y="10000"/>
                      </a:lnTo>
                      <a:lnTo>
                        <a:pt x="3077" y="6199"/>
                      </a:lnTo>
                      <a:lnTo>
                        <a:pt x="0" y="380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AutoShape 65"/>
                <p:cNvSpPr/>
                <p:nvPr/>
              </p:nvSpPr>
              <p:spPr>
                <a:xfrm>
                  <a:off x="4073760" y="790560"/>
                  <a:ext cx="231480" cy="1486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01"/>
                      </a:moveTo>
                      <a:lnTo>
                        <a:pt x="3803" y="3801"/>
                      </a:lnTo>
                      <a:lnTo>
                        <a:pt x="5000" y="0"/>
                      </a:lnTo>
                      <a:lnTo>
                        <a:pt x="6197" y="3801"/>
                      </a:lnTo>
                      <a:lnTo>
                        <a:pt x="10000" y="3801"/>
                      </a:lnTo>
                      <a:lnTo>
                        <a:pt x="6923" y="6199"/>
                      </a:lnTo>
                      <a:lnTo>
                        <a:pt x="8077" y="10000"/>
                      </a:lnTo>
                      <a:lnTo>
                        <a:pt x="5000" y="7661"/>
                      </a:lnTo>
                      <a:lnTo>
                        <a:pt x="1923" y="10000"/>
                      </a:lnTo>
                      <a:lnTo>
                        <a:pt x="3077" y="6199"/>
                      </a:lnTo>
                      <a:lnTo>
                        <a:pt x="0" y="380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65"/>
                <p:cNvSpPr/>
                <p:nvPr/>
              </p:nvSpPr>
              <p:spPr>
                <a:xfrm>
                  <a:off x="8445240" y="837360"/>
                  <a:ext cx="231840" cy="1504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15"/>
                      </a:moveTo>
                      <a:lnTo>
                        <a:pt x="3803" y="3815"/>
                      </a:lnTo>
                      <a:lnTo>
                        <a:pt x="5000" y="0"/>
                      </a:lnTo>
                      <a:lnTo>
                        <a:pt x="6197" y="3815"/>
                      </a:lnTo>
                      <a:lnTo>
                        <a:pt x="10000" y="3815"/>
                      </a:lnTo>
                      <a:lnTo>
                        <a:pt x="6923" y="6185"/>
                      </a:lnTo>
                      <a:lnTo>
                        <a:pt x="8077" y="10000"/>
                      </a:lnTo>
                      <a:lnTo>
                        <a:pt x="5000" y="7630"/>
                      </a:lnTo>
                      <a:lnTo>
                        <a:pt x="1923" y="10000"/>
                      </a:lnTo>
                      <a:lnTo>
                        <a:pt x="3077" y="6185"/>
                      </a:lnTo>
                      <a:lnTo>
                        <a:pt x="0" y="38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AutoShape 65"/>
                <p:cNvSpPr/>
                <p:nvPr/>
              </p:nvSpPr>
              <p:spPr>
                <a:xfrm>
                  <a:off x="9578880" y="828000"/>
                  <a:ext cx="231840" cy="1504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15"/>
                      </a:moveTo>
                      <a:lnTo>
                        <a:pt x="3803" y="3815"/>
                      </a:lnTo>
                      <a:lnTo>
                        <a:pt x="5000" y="0"/>
                      </a:lnTo>
                      <a:lnTo>
                        <a:pt x="6197" y="3815"/>
                      </a:lnTo>
                      <a:lnTo>
                        <a:pt x="10000" y="3815"/>
                      </a:lnTo>
                      <a:lnTo>
                        <a:pt x="6923" y="6185"/>
                      </a:lnTo>
                      <a:lnTo>
                        <a:pt x="8077" y="10000"/>
                      </a:lnTo>
                      <a:lnTo>
                        <a:pt x="5000" y="7630"/>
                      </a:lnTo>
                      <a:lnTo>
                        <a:pt x="1923" y="10000"/>
                      </a:lnTo>
                      <a:lnTo>
                        <a:pt x="3077" y="6185"/>
                      </a:lnTo>
                      <a:lnTo>
                        <a:pt x="0" y="38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" name="Group 66"/>
              <p:cNvGrpSpPr/>
              <p:nvPr/>
            </p:nvGrpSpPr>
            <p:grpSpPr>
              <a:xfrm>
                <a:off x="3798000" y="3939480"/>
                <a:ext cx="269280" cy="197280"/>
                <a:chOff x="3798000" y="3939480"/>
                <a:chExt cx="269280" cy="197280"/>
              </a:xfrm>
            </p:grpSpPr>
            <p:sp>
              <p:nvSpPr>
                <p:cNvPr id="520" name="AutoShape 67"/>
                <p:cNvSpPr/>
                <p:nvPr/>
              </p:nvSpPr>
              <p:spPr>
                <a:xfrm>
                  <a:off x="3798000" y="3939480"/>
                  <a:ext cx="269280" cy="197280"/>
                </a:xfrm>
                <a:prstGeom prst="diamond">
                  <a:avLst/>
                </a:prstGeom>
                <a:solidFill>
                  <a:srgbClr val="727ca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AutoShape 68"/>
                <p:cNvSpPr/>
                <p:nvPr/>
              </p:nvSpPr>
              <p:spPr>
                <a:xfrm>
                  <a:off x="3841560" y="3980880"/>
                  <a:ext cx="179280" cy="1155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35"/>
                      </a:moveTo>
                      <a:lnTo>
                        <a:pt x="3812" y="3835"/>
                      </a:lnTo>
                      <a:lnTo>
                        <a:pt x="5028" y="0"/>
                      </a:lnTo>
                      <a:lnTo>
                        <a:pt x="6188" y="3835"/>
                      </a:lnTo>
                      <a:lnTo>
                        <a:pt x="10000" y="3835"/>
                      </a:lnTo>
                      <a:lnTo>
                        <a:pt x="6906" y="6165"/>
                      </a:lnTo>
                      <a:lnTo>
                        <a:pt x="8066" y="10000"/>
                      </a:lnTo>
                      <a:lnTo>
                        <a:pt x="5028" y="7669"/>
                      </a:lnTo>
                      <a:lnTo>
                        <a:pt x="1934" y="10000"/>
                      </a:lnTo>
                      <a:lnTo>
                        <a:pt x="3094" y="6165"/>
                      </a:lnTo>
                      <a:lnTo>
                        <a:pt x="0" y="383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Group 69"/>
              <p:cNvGrpSpPr/>
              <p:nvPr/>
            </p:nvGrpSpPr>
            <p:grpSpPr>
              <a:xfrm>
                <a:off x="4382640" y="3031560"/>
                <a:ext cx="269280" cy="197280"/>
                <a:chOff x="4382640" y="3031560"/>
                <a:chExt cx="269280" cy="197280"/>
              </a:xfrm>
            </p:grpSpPr>
            <p:sp>
              <p:nvSpPr>
                <p:cNvPr id="523" name="AutoShape 70"/>
                <p:cNvSpPr/>
                <p:nvPr/>
              </p:nvSpPr>
              <p:spPr>
                <a:xfrm>
                  <a:off x="4382640" y="3031560"/>
                  <a:ext cx="269280" cy="197280"/>
                </a:xfrm>
                <a:prstGeom prst="diamond">
                  <a:avLst/>
                </a:prstGeom>
                <a:solidFill>
                  <a:srgbClr val="727ca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AutoShape 71"/>
                <p:cNvSpPr/>
                <p:nvPr/>
              </p:nvSpPr>
              <p:spPr>
                <a:xfrm>
                  <a:off x="4426920" y="3071160"/>
                  <a:ext cx="179280" cy="1173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52"/>
                      </a:moveTo>
                      <a:lnTo>
                        <a:pt x="3812" y="3852"/>
                      </a:lnTo>
                      <a:lnTo>
                        <a:pt x="5028" y="0"/>
                      </a:lnTo>
                      <a:lnTo>
                        <a:pt x="6188" y="3852"/>
                      </a:lnTo>
                      <a:lnTo>
                        <a:pt x="10000" y="3852"/>
                      </a:lnTo>
                      <a:lnTo>
                        <a:pt x="6906" y="6148"/>
                      </a:lnTo>
                      <a:lnTo>
                        <a:pt x="8066" y="10000"/>
                      </a:lnTo>
                      <a:lnTo>
                        <a:pt x="5028" y="7630"/>
                      </a:lnTo>
                      <a:lnTo>
                        <a:pt x="1934" y="10000"/>
                      </a:lnTo>
                      <a:lnTo>
                        <a:pt x="3094" y="6148"/>
                      </a:lnTo>
                      <a:lnTo>
                        <a:pt x="0" y="385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25" name="Picture 72" descr="Picture4"/>
              <p:cNvPicPr/>
              <p:nvPr/>
            </p:nvPicPr>
            <p:blipFill>
              <a:blip r:embed="rId25"/>
              <a:stretch/>
            </p:blipFill>
            <p:spPr>
              <a:xfrm>
                <a:off x="3348000" y="4255200"/>
                <a:ext cx="3596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6" name="Picture 73" descr="Picture4"/>
              <p:cNvPicPr/>
              <p:nvPr/>
            </p:nvPicPr>
            <p:blipFill>
              <a:blip r:embed="rId26"/>
              <a:stretch/>
            </p:blipFill>
            <p:spPr>
              <a:xfrm>
                <a:off x="3932640" y="3465720"/>
                <a:ext cx="258480" cy="31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7" name="Picture 74" descr="Picture4"/>
              <p:cNvPicPr/>
              <p:nvPr/>
            </p:nvPicPr>
            <p:blipFill>
              <a:blip r:embed="rId27"/>
              <a:stretch/>
            </p:blipFill>
            <p:spPr>
              <a:xfrm>
                <a:off x="4112280" y="4373640"/>
                <a:ext cx="3596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Picture 75" descr="Picture4"/>
              <p:cNvPicPr/>
              <p:nvPr/>
            </p:nvPicPr>
            <p:blipFill>
              <a:blip r:embed="rId28"/>
              <a:stretch/>
            </p:blipFill>
            <p:spPr>
              <a:xfrm>
                <a:off x="4292640" y="3346560"/>
                <a:ext cx="258480" cy="31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" name="Picture 76" descr="Picture4"/>
              <p:cNvPicPr/>
              <p:nvPr/>
            </p:nvPicPr>
            <p:blipFill>
              <a:blip r:embed="rId29"/>
              <a:stretch/>
            </p:blipFill>
            <p:spPr>
              <a:xfrm>
                <a:off x="2494080" y="4255200"/>
                <a:ext cx="359640" cy="226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0" name="Group 77"/>
              <p:cNvGrpSpPr/>
              <p:nvPr/>
            </p:nvGrpSpPr>
            <p:grpSpPr>
              <a:xfrm>
                <a:off x="2719080" y="4255200"/>
                <a:ext cx="269280" cy="197280"/>
                <a:chOff x="2719080" y="4255200"/>
                <a:chExt cx="269280" cy="197280"/>
              </a:xfrm>
            </p:grpSpPr>
            <p:sp>
              <p:nvSpPr>
                <p:cNvPr id="531" name="AutoShape 78"/>
                <p:cNvSpPr/>
                <p:nvPr/>
              </p:nvSpPr>
              <p:spPr>
                <a:xfrm>
                  <a:off x="2719080" y="4255200"/>
                  <a:ext cx="269280" cy="197280"/>
                </a:xfrm>
                <a:prstGeom prst="diamond">
                  <a:avLst/>
                </a:prstGeom>
                <a:solidFill>
                  <a:srgbClr val="727ca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79"/>
                <p:cNvSpPr/>
                <p:nvPr/>
              </p:nvSpPr>
              <p:spPr>
                <a:xfrm>
                  <a:off x="2763360" y="4296600"/>
                  <a:ext cx="176040" cy="1155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35"/>
                      </a:moveTo>
                      <a:lnTo>
                        <a:pt x="3820" y="3835"/>
                      </a:lnTo>
                      <a:lnTo>
                        <a:pt x="5000" y="0"/>
                      </a:lnTo>
                      <a:lnTo>
                        <a:pt x="6180" y="3835"/>
                      </a:lnTo>
                      <a:lnTo>
                        <a:pt x="10000" y="3835"/>
                      </a:lnTo>
                      <a:lnTo>
                        <a:pt x="6910" y="6165"/>
                      </a:lnTo>
                      <a:lnTo>
                        <a:pt x="8090" y="10000"/>
                      </a:lnTo>
                      <a:lnTo>
                        <a:pt x="5000" y="7669"/>
                      </a:lnTo>
                      <a:lnTo>
                        <a:pt x="1910" y="10000"/>
                      </a:lnTo>
                      <a:lnTo>
                        <a:pt x="3090" y="6165"/>
                      </a:lnTo>
                      <a:lnTo>
                        <a:pt x="0" y="383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AutoShape 80"/>
              <p:cNvSpPr/>
              <p:nvPr/>
            </p:nvSpPr>
            <p:spPr>
              <a:xfrm>
                <a:off x="3438360" y="4571280"/>
                <a:ext cx="269280" cy="197280"/>
              </a:xfrm>
              <a:prstGeom prst="diamond">
                <a:avLst/>
              </a:prstGeom>
              <a:solidFill>
                <a:srgbClr val="727c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81"/>
              <p:cNvSpPr/>
              <p:nvPr/>
            </p:nvSpPr>
            <p:spPr>
              <a:xfrm>
                <a:off x="3393720" y="3860280"/>
                <a:ext cx="269280" cy="197280"/>
              </a:xfrm>
              <a:prstGeom prst="diamond">
                <a:avLst/>
              </a:prstGeom>
              <a:solidFill>
                <a:srgbClr val="727c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AutoShape 82"/>
              <p:cNvSpPr/>
              <p:nvPr/>
            </p:nvSpPr>
            <p:spPr>
              <a:xfrm>
                <a:off x="2823480" y="3376800"/>
                <a:ext cx="269280" cy="197280"/>
              </a:xfrm>
              <a:prstGeom prst="diamond">
                <a:avLst/>
              </a:prstGeom>
              <a:solidFill>
                <a:srgbClr val="727c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6" name="Picture 51" descr="Picture4"/>
              <p:cNvPicPr/>
              <p:nvPr/>
            </p:nvPicPr>
            <p:blipFill>
              <a:blip r:embed="rId30"/>
              <a:stretch/>
            </p:blipFill>
            <p:spPr>
              <a:xfrm>
                <a:off x="2549160" y="3364560"/>
                <a:ext cx="359640" cy="22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AutoShape 82"/>
              <p:cNvSpPr/>
              <p:nvPr/>
            </p:nvSpPr>
            <p:spPr>
              <a:xfrm>
                <a:off x="3442680" y="3186000"/>
                <a:ext cx="269280" cy="197280"/>
              </a:xfrm>
              <a:prstGeom prst="diamond">
                <a:avLst/>
              </a:prstGeom>
              <a:solidFill>
                <a:srgbClr val="727c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Typical standard curve for the T3 I-125 RIA kit"/>
          <p:cNvPicPr/>
          <p:nvPr/>
        </p:nvPicPr>
        <p:blipFill>
          <a:blip r:embed="rId1"/>
          <a:stretch/>
        </p:blipFill>
        <p:spPr>
          <a:xfrm>
            <a:off x="2155680" y="230040"/>
            <a:ext cx="3816360" cy="28418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3218040" y="30718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2279520" y="1176480"/>
            <a:ext cx="11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2332080" y="2050920"/>
            <a:ext cx="154080" cy="669960"/>
          </a:xfrm>
          <a:prstGeom prst="rect">
            <a:avLst/>
          </a:prstGeom>
          <a:solidFill>
            <a:srgbClr val="ffff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6" descr="Typical standard curve for the Luteinizing Hormone (hLH) I-125 IRMA kit"/>
          <p:cNvPicPr/>
          <p:nvPr/>
        </p:nvPicPr>
        <p:blipFill>
          <a:blip r:embed="rId2"/>
          <a:stretch/>
        </p:blipFill>
        <p:spPr>
          <a:xfrm>
            <a:off x="6764400" y="301680"/>
            <a:ext cx="2808360" cy="26845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7307280" y="29908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96"/>
          <p:cNvGrpSpPr/>
          <p:nvPr/>
        </p:nvGrpSpPr>
        <p:grpSpPr>
          <a:xfrm>
            <a:off x="7214400" y="3556080"/>
            <a:ext cx="2266920" cy="579600"/>
            <a:chOff x="7214400" y="3556080"/>
            <a:chExt cx="2266920" cy="579600"/>
          </a:xfrm>
        </p:grpSpPr>
        <p:sp>
          <p:nvSpPr>
            <p:cNvPr id="545" name="AutoShape 65"/>
            <p:cNvSpPr/>
            <p:nvPr/>
          </p:nvSpPr>
          <p:spPr>
            <a:xfrm>
              <a:off x="7950240" y="3647880"/>
              <a:ext cx="231480" cy="150840"/>
            </a:xfrm>
            <a:custGeom>
              <a:avLst/>
              <a:gdLst/>
              <a:ahLst/>
              <a:rect l="l" t="t" r="r" b="b"/>
              <a:pathLst>
                <a:path w="231775" h="150813">
                  <a:moveTo>
                    <a:pt x="0" y="57605"/>
                  </a:moveTo>
                  <a:lnTo>
                    <a:pt x="88531" y="57606"/>
                  </a:lnTo>
                  <a:lnTo>
                    <a:pt x="115888" y="0"/>
                  </a:lnTo>
                  <a:lnTo>
                    <a:pt x="143244" y="57606"/>
                  </a:lnTo>
                  <a:lnTo>
                    <a:pt x="231775" y="57605"/>
                  </a:lnTo>
                  <a:lnTo>
                    <a:pt x="160152" y="93207"/>
                  </a:lnTo>
                  <a:lnTo>
                    <a:pt x="187510" y="150813"/>
                  </a:lnTo>
                  <a:lnTo>
                    <a:pt x="115888" y="115210"/>
                  </a:lnTo>
                  <a:lnTo>
                    <a:pt x="44265" y="150813"/>
                  </a:lnTo>
                  <a:lnTo>
                    <a:pt x="71623" y="93207"/>
                  </a:lnTo>
                  <a:lnTo>
                    <a:pt x="0" y="5760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65"/>
            <p:cNvSpPr/>
            <p:nvPr/>
          </p:nvSpPr>
          <p:spPr>
            <a:xfrm>
              <a:off x="9083880" y="3638520"/>
              <a:ext cx="231480" cy="150840"/>
            </a:xfrm>
            <a:custGeom>
              <a:avLst/>
              <a:gdLst/>
              <a:ahLst/>
              <a:rect l="l" t="t" r="r" b="b"/>
              <a:pathLst>
                <a:path w="231775" h="150813">
                  <a:moveTo>
                    <a:pt x="0" y="57605"/>
                  </a:moveTo>
                  <a:lnTo>
                    <a:pt x="88531" y="57606"/>
                  </a:lnTo>
                  <a:lnTo>
                    <a:pt x="115888" y="0"/>
                  </a:lnTo>
                  <a:lnTo>
                    <a:pt x="143244" y="57606"/>
                  </a:lnTo>
                  <a:lnTo>
                    <a:pt x="231775" y="57605"/>
                  </a:lnTo>
                  <a:lnTo>
                    <a:pt x="160152" y="93207"/>
                  </a:lnTo>
                  <a:lnTo>
                    <a:pt x="187510" y="150813"/>
                  </a:lnTo>
                  <a:lnTo>
                    <a:pt x="115888" y="115210"/>
                  </a:lnTo>
                  <a:lnTo>
                    <a:pt x="44265" y="150813"/>
                  </a:lnTo>
                  <a:lnTo>
                    <a:pt x="71623" y="93207"/>
                  </a:lnTo>
                  <a:lnTo>
                    <a:pt x="0" y="5760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42"/>
            <p:cNvSpPr/>
            <p:nvPr/>
          </p:nvSpPr>
          <p:spPr>
            <a:xfrm>
              <a:off x="7214400" y="3556080"/>
              <a:ext cx="226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↔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95"/>
          <p:cNvGrpSpPr/>
          <p:nvPr/>
        </p:nvGrpSpPr>
        <p:grpSpPr>
          <a:xfrm>
            <a:off x="2104200" y="3492360"/>
            <a:ext cx="3824280" cy="579600"/>
            <a:chOff x="2104200" y="3492360"/>
            <a:chExt cx="3824280" cy="579600"/>
          </a:xfrm>
        </p:grpSpPr>
        <p:sp>
          <p:nvSpPr>
            <p:cNvPr id="549" name="AutoShape 65"/>
            <p:cNvSpPr/>
            <p:nvPr/>
          </p:nvSpPr>
          <p:spPr>
            <a:xfrm>
              <a:off x="2225520" y="3638520"/>
              <a:ext cx="231480" cy="149400"/>
            </a:xfrm>
            <a:custGeom>
              <a:avLst/>
              <a:gdLst/>
              <a:ahLst/>
              <a:rect l="l" t="t" r="r" b="b"/>
              <a:pathLst>
                <a:path w="231775" h="149225">
                  <a:moveTo>
                    <a:pt x="0" y="56999"/>
                  </a:moveTo>
                  <a:lnTo>
                    <a:pt x="88531" y="56999"/>
                  </a:lnTo>
                  <a:lnTo>
                    <a:pt x="115888" y="0"/>
                  </a:lnTo>
                  <a:lnTo>
                    <a:pt x="143244" y="56999"/>
                  </a:lnTo>
                  <a:lnTo>
                    <a:pt x="231775" y="56999"/>
                  </a:lnTo>
                  <a:lnTo>
                    <a:pt x="160152" y="92226"/>
                  </a:lnTo>
                  <a:lnTo>
                    <a:pt x="187510" y="149225"/>
                  </a:lnTo>
                  <a:lnTo>
                    <a:pt x="115888" y="113997"/>
                  </a:lnTo>
                  <a:lnTo>
                    <a:pt x="44265" y="149225"/>
                  </a:lnTo>
                  <a:lnTo>
                    <a:pt x="71623" y="92226"/>
                  </a:lnTo>
                  <a:lnTo>
                    <a:pt x="0" y="5699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65"/>
            <p:cNvSpPr/>
            <p:nvPr/>
          </p:nvSpPr>
          <p:spPr>
            <a:xfrm>
              <a:off x="4235400" y="3609720"/>
              <a:ext cx="231480" cy="149400"/>
            </a:xfrm>
            <a:custGeom>
              <a:avLst/>
              <a:gdLst/>
              <a:ahLst/>
              <a:rect l="l" t="t" r="r" b="b"/>
              <a:pathLst>
                <a:path w="231775" h="149225">
                  <a:moveTo>
                    <a:pt x="0" y="56999"/>
                  </a:moveTo>
                  <a:lnTo>
                    <a:pt x="88531" y="56999"/>
                  </a:lnTo>
                  <a:lnTo>
                    <a:pt x="115888" y="0"/>
                  </a:lnTo>
                  <a:lnTo>
                    <a:pt x="143244" y="56999"/>
                  </a:lnTo>
                  <a:lnTo>
                    <a:pt x="231775" y="56999"/>
                  </a:lnTo>
                  <a:lnTo>
                    <a:pt x="160152" y="92226"/>
                  </a:lnTo>
                  <a:lnTo>
                    <a:pt x="187510" y="149225"/>
                  </a:lnTo>
                  <a:lnTo>
                    <a:pt x="115888" y="113997"/>
                  </a:lnTo>
                  <a:lnTo>
                    <a:pt x="44265" y="149225"/>
                  </a:lnTo>
                  <a:lnTo>
                    <a:pt x="71623" y="92226"/>
                  </a:lnTo>
                  <a:lnTo>
                    <a:pt x="0" y="5699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43"/>
            <p:cNvSpPr/>
            <p:nvPr/>
          </p:nvSpPr>
          <p:spPr>
            <a:xfrm>
              <a:off x="2104200" y="3492360"/>
              <a:ext cx="38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↔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Rectangle 197"/>
          <p:cNvSpPr/>
          <p:nvPr/>
        </p:nvSpPr>
        <p:spPr>
          <a:xfrm>
            <a:off x="5216760" y="4149720"/>
            <a:ext cx="250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танд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5"/>
          <p:cNvSpPr/>
          <p:nvPr/>
        </p:nvSpPr>
        <p:spPr>
          <a:xfrm>
            <a:off x="2332080" y="2050920"/>
            <a:ext cx="154080" cy="669960"/>
          </a:xfrm>
          <a:prstGeom prst="rect">
            <a:avLst/>
          </a:prstGeom>
          <a:solidFill>
            <a:srgbClr val="ffff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1876320" y="166680"/>
            <a:ext cx="8305920" cy="646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3146760" y="32688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Гам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број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1738440" y="1424160"/>
            <a:ext cx="183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797040" y="1101600"/>
            <a:ext cx="10023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инструмент који мери радиоактивност у узорцима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другим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речима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овај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уређај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ери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број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гама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фотона који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емитују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из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уз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ама (јамасти) бројач је сцинтилациони бројач који садржи удубљење «јаму» у које се постављају епрувете са узорцима за ин витро мерења. Основна предност овакве конструкције је повећана геометријска ефикасност бројања, зато што кристал окружује већи део уз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Object 9"/>
          <p:cNvGraphicFramePr/>
          <p:nvPr/>
        </p:nvGraphicFramePr>
        <p:xfrm>
          <a:off x="1820880" y="4390920"/>
          <a:ext cx="2674800" cy="16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0880" y="4390920"/>
                    <a:ext cx="2674800" cy="16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0" name="Picture 7" descr="Well Type Detector"/>
          <p:cNvPicPr/>
          <p:nvPr/>
        </p:nvPicPr>
        <p:blipFill>
          <a:blip r:embed="rId3"/>
          <a:stretch/>
        </p:blipFill>
        <p:spPr>
          <a:xfrm>
            <a:off x="4727520" y="4191120"/>
            <a:ext cx="2044800" cy="20444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9" descr="http://www.bcm.edu/physio/lab_pages/pedersen/equipment/cobra.jpg"/>
          <p:cNvPicPr/>
          <p:nvPr/>
        </p:nvPicPr>
        <p:blipFill>
          <a:blip r:embed="rId4"/>
          <a:stretch/>
        </p:blipFill>
        <p:spPr>
          <a:xfrm>
            <a:off x="7156440" y="3381480"/>
            <a:ext cx="25401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609480" y="1219320"/>
            <a:ext cx="1097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обичајени делови оптичких инструмената који се користе у УВ, видљивом и ИР региону су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Calibri"/>
                <a:ea typeface="Calibri"/>
              </a:rPr>
              <a:t>1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абилан извор зрачењ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) монохроматор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) носач (држач) узорка (један или више)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) детектор ЕМ зрачења (у већини случајева енергија ЕМ зрачења се претвара у електричну енергију) 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) део за обраду и очитавање сигнала (углавном је то рачунар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86DA-2D93-4A09-AC56-77DF9F41FA5E}" type="slidenum">
              <a:rPr b="0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2874600" y="338040"/>
            <a:ext cx="34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БЕТ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БРОЈ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858960" y="1606680"/>
            <a:ext cx="900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струмент који мери радиоактивност у узорцима,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ругим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ечима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вај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ређај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ери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рој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ета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чес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митују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зор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Object 8"/>
          <p:cNvGraphicFramePr/>
          <p:nvPr/>
        </p:nvGraphicFramePr>
        <p:xfrm>
          <a:off x="2022480" y="4064040"/>
          <a:ext cx="838836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2480" y="4064040"/>
                    <a:ext cx="838836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135600" y="32688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ФЛУОРОМЕ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658800" y="1295280"/>
            <a:ext cx="1034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инструмент који мери количину светлости која настаје ексцитац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друг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ечи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вај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ређај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р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личину светло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ста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лик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еексцитац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атер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казу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еноме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луоресцен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5"/>
          <p:cNvGrpSpPr/>
          <p:nvPr/>
        </p:nvGrpSpPr>
        <p:grpSpPr>
          <a:xfrm>
            <a:off x="1771560" y="3720960"/>
            <a:ext cx="4287600" cy="2955960"/>
            <a:chOff x="1771560" y="3720960"/>
            <a:chExt cx="4287600" cy="2955960"/>
          </a:xfrm>
        </p:grpSpPr>
        <p:grpSp>
          <p:nvGrpSpPr>
            <p:cNvPr id="569" name="Group 6"/>
            <p:cNvGrpSpPr/>
            <p:nvPr/>
          </p:nvGrpSpPr>
          <p:grpSpPr>
            <a:xfrm>
              <a:off x="1771560" y="3767400"/>
              <a:ext cx="3935160" cy="2772360"/>
              <a:chOff x="1771560" y="3767400"/>
              <a:chExt cx="3935160" cy="2772360"/>
            </a:xfrm>
          </p:grpSpPr>
          <p:grpSp>
            <p:nvGrpSpPr>
              <p:cNvPr id="570" name="Group 7"/>
              <p:cNvGrpSpPr/>
              <p:nvPr/>
            </p:nvGrpSpPr>
            <p:grpSpPr>
              <a:xfrm>
                <a:off x="1771560" y="3767400"/>
                <a:ext cx="3935160" cy="2772360"/>
                <a:chOff x="1771560" y="3767400"/>
                <a:chExt cx="3935160" cy="2772360"/>
              </a:xfrm>
            </p:grpSpPr>
            <p:grpSp>
              <p:nvGrpSpPr>
                <p:cNvPr id="571" name="Group 8"/>
                <p:cNvGrpSpPr/>
                <p:nvPr/>
              </p:nvGrpSpPr>
              <p:grpSpPr>
                <a:xfrm>
                  <a:off x="1771560" y="3767400"/>
                  <a:ext cx="3935160" cy="2772360"/>
                  <a:chOff x="1771560" y="3767400"/>
                  <a:chExt cx="3935160" cy="2772360"/>
                </a:xfrm>
              </p:grpSpPr>
              <p:sp>
                <p:nvSpPr>
                  <p:cNvPr id="572" name="Rectangle 9"/>
                  <p:cNvSpPr/>
                  <p:nvPr/>
                </p:nvSpPr>
                <p:spPr>
                  <a:xfrm>
                    <a:off x="1771560" y="3767400"/>
                    <a:ext cx="3935160" cy="2772360"/>
                  </a:xfrm>
                  <a:prstGeom prst="rect">
                    <a:avLst/>
                  </a:prstGeom>
                  <a:solidFill>
                    <a:srgbClr val="727ca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10"/>
                  <p:cNvSpPr/>
                  <p:nvPr/>
                </p:nvSpPr>
                <p:spPr>
                  <a:xfrm>
                    <a:off x="1972080" y="4008240"/>
                    <a:ext cx="0" cy="229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11"/>
                  <p:cNvSpPr/>
                  <p:nvPr/>
                </p:nvSpPr>
                <p:spPr>
                  <a:xfrm>
                    <a:off x="1972080" y="6299280"/>
                    <a:ext cx="3467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5" name="Freeform 12"/>
                <p:cNvSpPr/>
                <p:nvPr/>
              </p:nvSpPr>
              <p:spPr>
                <a:xfrm>
                  <a:off x="1972080" y="4043880"/>
                  <a:ext cx="1333800" cy="2210400"/>
                </a:xfrm>
                <a:custGeom>
                  <a:avLst/>
                  <a:gdLst>
                    <a:gd name="textAreaLeft" fmla="*/ 0 w 1333800"/>
                    <a:gd name="textAreaRight" fmla="*/ 1334160 w 1333800"/>
                    <a:gd name="textAreaTop" fmla="*/ 0 h 2210400"/>
                    <a:gd name="textAreaBottom" fmla="*/ 2210760 h 2210400"/>
                  </a:gdLst>
                  <a:ahLst/>
                  <a:rect l="textAreaLeft" t="textAreaTop" r="textAreaRight" b="textAreaBottom"/>
                  <a:pathLst>
                    <a:path w="2400" h="3300">
                      <a:moveTo>
                        <a:pt x="0" y="3187"/>
                      </a:moveTo>
                      <a:cubicBezTo>
                        <a:pt x="250" y="3202"/>
                        <a:pt x="421" y="3180"/>
                        <a:pt x="600" y="3187"/>
                      </a:cubicBezTo>
                      <a:cubicBezTo>
                        <a:pt x="779" y="3194"/>
                        <a:pt x="946" y="3237"/>
                        <a:pt x="1072" y="3232"/>
                      </a:cubicBezTo>
                      <a:cubicBezTo>
                        <a:pt x="1198" y="3227"/>
                        <a:pt x="1304" y="3300"/>
                        <a:pt x="1357" y="3157"/>
                      </a:cubicBezTo>
                      <a:cubicBezTo>
                        <a:pt x="1410" y="3014"/>
                        <a:pt x="1360" y="2694"/>
                        <a:pt x="1387" y="2377"/>
                      </a:cubicBezTo>
                      <a:cubicBezTo>
                        <a:pt x="1414" y="2060"/>
                        <a:pt x="1473" y="1627"/>
                        <a:pt x="1522" y="1252"/>
                      </a:cubicBezTo>
                      <a:cubicBezTo>
                        <a:pt x="1571" y="877"/>
                        <a:pt x="1634" y="254"/>
                        <a:pt x="1680" y="127"/>
                      </a:cubicBezTo>
                      <a:cubicBezTo>
                        <a:pt x="1726" y="0"/>
                        <a:pt x="1786" y="300"/>
                        <a:pt x="1800" y="487"/>
                      </a:cubicBezTo>
                      <a:cubicBezTo>
                        <a:pt x="1814" y="674"/>
                        <a:pt x="1771" y="965"/>
                        <a:pt x="1762" y="1252"/>
                      </a:cubicBezTo>
                      <a:cubicBezTo>
                        <a:pt x="1753" y="1539"/>
                        <a:pt x="1747" y="1902"/>
                        <a:pt x="1747" y="2212"/>
                      </a:cubicBezTo>
                      <a:cubicBezTo>
                        <a:pt x="1747" y="2522"/>
                        <a:pt x="1653" y="2949"/>
                        <a:pt x="1762" y="3112"/>
                      </a:cubicBezTo>
                      <a:cubicBezTo>
                        <a:pt x="1871" y="3275"/>
                        <a:pt x="2267" y="3172"/>
                        <a:pt x="2400" y="318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Freeform 13"/>
              <p:cNvSpPr/>
              <p:nvPr/>
            </p:nvSpPr>
            <p:spPr>
              <a:xfrm>
                <a:off x="4573080" y="4108680"/>
                <a:ext cx="600120" cy="209016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2090160"/>
                  <a:gd name="textAreaBottom" fmla="*/ 2090520 h 2090160"/>
                </a:gdLst>
                <a:ahLst/>
                <a:rect l="textAreaLeft" t="textAreaTop" r="textAreaRight" b="textAreaBottom"/>
                <a:pathLst>
                  <a:path w="1080" h="3120">
                    <a:moveTo>
                      <a:pt x="0" y="3090"/>
                    </a:moveTo>
                    <a:cubicBezTo>
                      <a:pt x="40" y="2910"/>
                      <a:pt x="80" y="2730"/>
                      <a:pt x="120" y="2550"/>
                    </a:cubicBezTo>
                    <a:cubicBezTo>
                      <a:pt x="160" y="2370"/>
                      <a:pt x="200" y="2310"/>
                      <a:pt x="240" y="2010"/>
                    </a:cubicBezTo>
                    <a:cubicBezTo>
                      <a:pt x="280" y="1710"/>
                      <a:pt x="300" y="1080"/>
                      <a:pt x="360" y="750"/>
                    </a:cubicBezTo>
                    <a:cubicBezTo>
                      <a:pt x="420" y="420"/>
                      <a:pt x="540" y="60"/>
                      <a:pt x="600" y="30"/>
                    </a:cubicBezTo>
                    <a:cubicBezTo>
                      <a:pt x="660" y="0"/>
                      <a:pt x="700" y="240"/>
                      <a:pt x="720" y="570"/>
                    </a:cubicBezTo>
                    <a:cubicBezTo>
                      <a:pt x="740" y="900"/>
                      <a:pt x="700" y="1620"/>
                      <a:pt x="720" y="2010"/>
                    </a:cubicBezTo>
                    <a:cubicBezTo>
                      <a:pt x="740" y="2400"/>
                      <a:pt x="800" y="2730"/>
                      <a:pt x="840" y="2910"/>
                    </a:cubicBezTo>
                    <a:cubicBezTo>
                      <a:pt x="880" y="3090"/>
                      <a:pt x="920" y="3060"/>
                      <a:pt x="960" y="3090"/>
                    </a:cubicBezTo>
                    <a:cubicBezTo>
                      <a:pt x="1000" y="3120"/>
                      <a:pt x="1040" y="3105"/>
                      <a:pt x="1080" y="30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Text Box 14"/>
            <p:cNvSpPr/>
            <p:nvPr/>
          </p:nvSpPr>
          <p:spPr>
            <a:xfrm>
              <a:off x="4468680" y="6308640"/>
              <a:ext cx="1015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15"/>
            <p:cNvSpPr/>
            <p:nvPr/>
          </p:nvSpPr>
          <p:spPr>
            <a:xfrm>
              <a:off x="2346480" y="6308640"/>
              <a:ext cx="146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ксцитац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6"/>
            <p:cNvSpPr/>
            <p:nvPr/>
          </p:nvSpPr>
          <p:spPr>
            <a:xfrm>
              <a:off x="4513680" y="6306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мис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7"/>
            <p:cNvSpPr/>
            <p:nvPr/>
          </p:nvSpPr>
          <p:spPr>
            <a:xfrm>
              <a:off x="4778640" y="3720960"/>
              <a:ext cx="12805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</a:t>
              </a:r>
              <a:r>
                <a:rPr b="0" lang="sr-Latn-CS" sz="4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8"/>
            <p:cNvSpPr/>
            <p:nvPr/>
          </p:nvSpPr>
          <p:spPr>
            <a:xfrm>
              <a:off x="2787120" y="3768480"/>
              <a:ext cx="12826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</a:t>
              </a:r>
              <a:r>
                <a:rPr b="0" lang="sr-Latn-CS" sz="4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19"/>
            <p:cNvSpPr/>
            <p:nvPr/>
          </p:nvSpPr>
          <p:spPr>
            <a:xfrm>
              <a:off x="2920680" y="4367880"/>
              <a:ext cx="19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0"/>
            <p:cNvSpPr/>
            <p:nvPr/>
          </p:nvSpPr>
          <p:spPr>
            <a:xfrm>
              <a:off x="3143160" y="4365720"/>
              <a:ext cx="154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cks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в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ма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4" name="Object 8"/>
          <p:cNvGraphicFramePr/>
          <p:nvPr/>
        </p:nvGraphicFramePr>
        <p:xfrm>
          <a:off x="6126120" y="4060800"/>
          <a:ext cx="435924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6120" y="4060800"/>
                    <a:ext cx="435924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3140280" y="32688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ФОТОМЕТ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841320" y="1508040"/>
            <a:ext cx="1034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струмент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р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личин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етлост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стај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з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к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хемијск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Object 8"/>
          <p:cNvGraphicFramePr/>
          <p:nvPr/>
        </p:nvGraphicFramePr>
        <p:xfrm>
          <a:off x="4017960" y="2454120"/>
          <a:ext cx="4338720" cy="32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960" y="2454120"/>
                    <a:ext cx="4338720" cy="32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3156840" y="326880"/>
            <a:ext cx="41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ПЕКТРОФОТОМЕТ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1919160" y="1413000"/>
            <a:ext cx="8291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струмент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р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фракциј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етлост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олази кроз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к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створ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ругим речима, овај уређај мери количину светлости која је прошла кроз, односно индиректно мери количину апсорбоване светлости у узор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5" descr=""/>
          <p:cNvPicPr/>
          <p:nvPr/>
        </p:nvPicPr>
        <p:blipFill>
          <a:blip r:embed="rId1"/>
          <a:stretch/>
        </p:blipFill>
        <p:spPr>
          <a:xfrm>
            <a:off x="6881760" y="4562640"/>
            <a:ext cx="3633840" cy="15951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6" descr=""/>
          <p:cNvPicPr/>
          <p:nvPr/>
        </p:nvPicPr>
        <p:blipFill>
          <a:blip r:embed="rId2"/>
          <a:stretch/>
        </p:blipFill>
        <p:spPr>
          <a:xfrm>
            <a:off x="1828800" y="4564080"/>
            <a:ext cx="489600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Грешка мерења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5" name="Content Placeholder 3" descr=""/>
          <p:cNvPicPr/>
          <p:nvPr/>
        </p:nvPicPr>
        <p:blipFill>
          <a:blip r:embed="rId1"/>
          <a:stretch/>
        </p:blipFill>
        <p:spPr>
          <a:xfrm>
            <a:off x="2092320" y="2174760"/>
            <a:ext cx="1584360" cy="215604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5"/>
          <p:cNvSpPr/>
          <p:nvPr/>
        </p:nvSpPr>
        <p:spPr>
          <a:xfrm>
            <a:off x="4168800" y="236520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N=100, грешка 0.1(1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N =10000, грешка 0.01 (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рење треба да траје довољно дуго да грешка мерења буде у прихватљивом опсе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КОНТРОЛА КВАЛИТЕТА  (QC, Quality Control)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09480" y="1219320"/>
            <a:ext cx="1097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ЧНОСТ : колико је измерена концентрација блиска реалној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ПЕЦИФИЧНОСТ : има ли интерференције са сличним супстанцам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НЗИТИВНОСТ: колика је најмања детектабилна концентрациј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ЦИЗНОСТ : ≈ репродуцибилност; ниска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er-as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ra-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ријабилност (&lt; 10%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9" name="Picture 3" descr=""/>
          <p:cNvPicPr/>
          <p:nvPr/>
        </p:nvPicPr>
        <p:blipFill>
          <a:blip r:embed="rId1"/>
          <a:stretch/>
        </p:blipFill>
        <p:spPr>
          <a:xfrm>
            <a:off x="2003400" y="3549600"/>
            <a:ext cx="6224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3940200" y="325440"/>
            <a:ext cx="51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ТАЧНОСТ</a:t>
            </a:r>
            <a:r>
              <a:rPr b="1" lang="sr-Latn-C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C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ПРЕЦИЗ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" descr="File:High accuracy Low precisio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6560" y="3124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File:High precision Low accuracy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70920" y="31622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12"/>
          <p:cNvSpPr/>
          <p:nvPr/>
        </p:nvSpPr>
        <p:spPr>
          <a:xfrm>
            <a:off x="3012120" y="504684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ТАЧАН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али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ПРЕЦИЗА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3"/>
          <p:cNvSpPr/>
          <p:nvPr/>
        </p:nvSpPr>
        <p:spPr>
          <a:xfrm>
            <a:off x="6954840" y="507528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ТАЧАН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али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ЕЦИЗА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6" descr="File:Accuracy and precision.sv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00360" y="789120"/>
            <a:ext cx="4667400" cy="25128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11">
            <a:hlinkClick r:id="rId7"/>
          </p:cNvPr>
          <p:cNvSpPr/>
          <p:nvPr/>
        </p:nvSpPr>
        <p:spPr>
          <a:xfrm>
            <a:off x="152388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5969160" y="41590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концентр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3935520" y="907920"/>
            <a:ext cx="2232000" cy="324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3071880" y="907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CV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"/>
          <p:cNvSpPr/>
          <p:nvPr/>
        </p:nvSpPr>
        <p:spPr>
          <a:xfrm>
            <a:off x="4025880" y="2276640"/>
            <a:ext cx="2070000" cy="82692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826920"/>
              <a:gd name="textAreaBottom" fmla="*/ 827280 h 826920"/>
            </a:gdLst>
            <a:ahLst/>
            <a:rect l="textAreaLeft" t="textAreaTop" r="textAreaRight" b="textAreaBottom"/>
            <a:pathLst>
              <a:path w="1168" h="430">
                <a:moveTo>
                  <a:pt x="0" y="217"/>
                </a:moveTo>
                <a:cubicBezTo>
                  <a:pt x="22" y="239"/>
                  <a:pt x="93" y="313"/>
                  <a:pt x="134" y="341"/>
                </a:cubicBezTo>
                <a:cubicBezTo>
                  <a:pt x="175" y="369"/>
                  <a:pt x="194" y="373"/>
                  <a:pt x="249" y="383"/>
                </a:cubicBezTo>
                <a:cubicBezTo>
                  <a:pt x="304" y="393"/>
                  <a:pt x="365" y="404"/>
                  <a:pt x="465" y="401"/>
                </a:cubicBezTo>
                <a:cubicBezTo>
                  <a:pt x="565" y="398"/>
                  <a:pt x="733" y="430"/>
                  <a:pt x="850" y="363"/>
                </a:cubicBezTo>
                <a:cubicBezTo>
                  <a:pt x="967" y="296"/>
                  <a:pt x="1115" y="60"/>
                  <a:pt x="116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4008600" y="333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офил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ециз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8"/>
          <p:cNvSpPr/>
          <p:nvPr/>
        </p:nvSpPr>
        <p:spPr>
          <a:xfrm>
            <a:off x="4340160" y="3005280"/>
            <a:ext cx="0" cy="1131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9"/>
          <p:cNvSpPr/>
          <p:nvPr/>
        </p:nvSpPr>
        <p:spPr>
          <a:xfrm>
            <a:off x="5500800" y="3019320"/>
            <a:ext cx="1440" cy="1101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10"/>
          <p:cNvSpPr/>
          <p:nvPr/>
        </p:nvSpPr>
        <p:spPr>
          <a:xfrm>
            <a:off x="4314960" y="2995560"/>
            <a:ext cx="1185840" cy="1147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747" h="723">
                <a:moveTo>
                  <a:pt x="15" y="711"/>
                </a:moveTo>
                <a:lnTo>
                  <a:pt x="15" y="0"/>
                </a:lnTo>
                <a:lnTo>
                  <a:pt x="159" y="36"/>
                </a:lnTo>
                <a:lnTo>
                  <a:pt x="264" y="39"/>
                </a:lnTo>
                <a:lnTo>
                  <a:pt x="432" y="45"/>
                </a:lnTo>
                <a:lnTo>
                  <a:pt x="573" y="45"/>
                </a:lnTo>
                <a:lnTo>
                  <a:pt x="684" y="33"/>
                </a:lnTo>
                <a:lnTo>
                  <a:pt x="744" y="6"/>
                </a:lnTo>
                <a:lnTo>
                  <a:pt x="747" y="720"/>
                </a:lnTo>
                <a:lnTo>
                  <a:pt x="0" y="723"/>
                </a:lnTo>
                <a:lnTo>
                  <a:pt x="15" y="711"/>
                </a:lnTo>
                <a:close/>
              </a:path>
            </a:pathLst>
          </a:custGeom>
          <a:solidFill>
            <a:srgbClr val="0033cc">
              <a:alpha val="6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1"/>
          <p:cNvSpPr/>
          <p:nvPr/>
        </p:nvSpPr>
        <p:spPr>
          <a:xfrm>
            <a:off x="3978360" y="4192560"/>
            <a:ext cx="226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000" spc="-1" strike="noStrike">
                <a:solidFill>
                  <a:srgbClr val="000000"/>
                </a:solidFill>
                <a:latin typeface="Calibri"/>
                <a:ea typeface="Calibri"/>
              </a:rPr>
              <a:t>доња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  <a:ea typeface="Calibri"/>
              </a:rPr>
              <a:t>гр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  <a:ea typeface="Calibri"/>
              </a:rPr>
              <a:t>горња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  <a:ea typeface="Calibri"/>
              </a:rPr>
              <a:t>гр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3094200" y="5467320"/>
            <a:ext cx="45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GLP, Good Laboratory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1228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64653"/>
                </a:solidFill>
                <a:latin typeface="Bookman Old Style"/>
              </a:rPr>
              <a:t>FAKTORI KOJI UTIČU NA</a:t>
            </a: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0" lang="pl-PL" sz="3200" spc="-1" strike="noStrike">
                <a:solidFill>
                  <a:srgbClr val="464653"/>
                </a:solidFill>
                <a:latin typeface="Bookman Old Style"/>
              </a:rPr>
              <a:t>LABORATORIJSKE NALAZ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18" name="Content Placeholder 3" descr=""/>
          <p:cNvPicPr/>
          <p:nvPr/>
        </p:nvPicPr>
        <p:blipFill>
          <a:blip r:embed="rId1"/>
          <a:srcRect l="32220" t="18768" r="17219" b="12332"/>
          <a:stretch/>
        </p:blipFill>
        <p:spPr>
          <a:xfrm>
            <a:off x="1938240" y="1141560"/>
            <a:ext cx="735192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20" name="Content Placeholder 3" descr=""/>
          <p:cNvPicPr/>
          <p:nvPr/>
        </p:nvPicPr>
        <p:blipFill>
          <a:blip r:embed="rId1"/>
          <a:srcRect l="34860" t="35808" r="19996" b="44192"/>
          <a:stretch/>
        </p:blipFill>
        <p:spPr>
          <a:xfrm>
            <a:off x="2646360" y="1536840"/>
            <a:ext cx="7238880" cy="18032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2"/>
          <a:srcRect l="43100" t="58135" r="31201" b="19111"/>
          <a:stretch/>
        </p:blipFill>
        <p:spPr>
          <a:xfrm>
            <a:off x="4048200" y="3852720"/>
            <a:ext cx="31338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10972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Шематски приказ заједничких делова инструмената који се користе у оптичкој спектроскопији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4921-4B01-466A-BD85-7E51DA0A503A}" type="slidenum">
              <a:rPr b="0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3638520" y="1219320"/>
            <a:ext cx="4203720" cy="49338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5"/>
          <p:cNvSpPr/>
          <p:nvPr/>
        </p:nvSpPr>
        <p:spPr>
          <a:xfrm>
            <a:off x="2467080" y="6292800"/>
            <a:ext cx="73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апсорпцио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флуоресцнет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)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емисиона спектроскоп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1243080" y="3005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ХВАЛА НА ПАЖЊИ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Cambria"/>
              </a:rPr>
              <a:t>Извори зрачења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52600" y="1327320"/>
            <a:ext cx="101916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вори зрачења су саставни део сваког апарата који се користи у оптичким методам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ма врсти емитованог спектра, извори зрачења се деле на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вори који емитују континуалан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вори који емитују дисконтинуалан спекта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1584-3B8B-4E7F-A144-367FA55C2E3F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71520" y="1390320"/>
            <a:ext cx="9820080" cy="47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тинуални спектар је окарактерисан непрекидном расподелом енергије у широком интервалу таласних дужина без оштрих линија и тра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сконтинуални спектар  се састоји од низа одвојених, мање или више оштрих линија и тра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штра граница између ове две врсте извора не постоји јер има извора који у једној области таласних дужина емитују континуални спектар а у другој дисконтинуални (водонична ламп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Slide Number Placeholder 2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94E6-7BC0-4791-BB9F-998BC773B46F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61440" y="1447560"/>
            <a:ext cx="109918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апсорпционих</a:t>
            </a: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метода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главном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ристе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вори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са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континуалним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зрачењем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емисионих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извори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дисконтинуалним</a:t>
            </a: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зрачењем</a:t>
            </a: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Сви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извори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зрачења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рактеришу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спектралном</a:t>
            </a: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расподелом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рачења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карактером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њене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временске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lide Number Placeholder 2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AB2A-F1CC-442E-9B96-23A023C68E5B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68120" y="1251000"/>
            <a:ext cx="116157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Максимум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емисије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рачења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помера</a:t>
            </a:r>
            <a:r>
              <a:rPr b="1" lang="it-IT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ка</a:t>
            </a:r>
            <a:r>
              <a:rPr b="1" lang="it-IT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нижим</a:t>
            </a:r>
            <a:r>
              <a:rPr b="1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аласним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ужинама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емпература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усијаном</a:t>
            </a:r>
            <a:r>
              <a:rPr b="1" lang="it-IT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телу</a:t>
            </a:r>
            <a:r>
              <a:rPr b="1" lang="it-IT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расте</a:t>
            </a:r>
            <a:r>
              <a:rPr b="1" lang="it-IT" sz="24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it-IT" sz="2400" spc="-1" strike="noStrike">
                <a:solidFill>
                  <a:srgbClr val="464653"/>
                </a:solidFill>
                <a:latin typeface="Gill Sans MT"/>
              </a:rPr>
              <a:t>W</a:t>
            </a:r>
            <a:r>
              <a:rPr b="1" lang="sr-Latn-RS" sz="2400" spc="-1" strike="noStrike">
                <a:solidFill>
                  <a:srgbClr val="464653"/>
                </a:solidFill>
                <a:latin typeface="Gill Sans MT"/>
              </a:rPr>
              <a:t>ien</a:t>
            </a:r>
            <a:r>
              <a:rPr b="1" lang="it-IT" sz="2400" spc="-1" strike="noStrike">
                <a:solidFill>
                  <a:srgbClr val="464653"/>
                </a:solidFill>
                <a:latin typeface="Gill Sans MT"/>
              </a:rPr>
              <a:t>-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ов</a:t>
            </a:r>
            <a:r>
              <a:rPr b="1" lang="it-IT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акон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мерања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it-IT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it-IT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1523880" y="3049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6"/>
          <p:cNvGraphicFramePr/>
          <p:nvPr/>
        </p:nvGraphicFramePr>
        <p:xfrm>
          <a:off x="6531120" y="1935000"/>
          <a:ext cx="2287440" cy="12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1120" y="1935000"/>
                    <a:ext cx="2287440" cy="12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Slide Number Placeholder 4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1861-CE02-4F25-AC4F-9B91A9C12CFD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crnotelo"/>
          <p:cNvPicPr/>
          <p:nvPr/>
        </p:nvPicPr>
        <p:blipFill>
          <a:blip r:embed="rId3"/>
          <a:stretch/>
        </p:blipFill>
        <p:spPr>
          <a:xfrm>
            <a:off x="4876920" y="3713040"/>
            <a:ext cx="4881600" cy="292752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3"/>
          <p:cNvSpPr/>
          <p:nvPr/>
        </p:nvSpPr>
        <p:spPr>
          <a:xfrm>
            <a:off x="635040" y="3118320"/>
            <a:ext cx="109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64653"/>
                </a:solidFill>
                <a:latin typeface="Comic Sans MS"/>
                <a:ea typeface="Arial"/>
              </a:rPr>
              <a:t>Spektralna raspodela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zra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č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nja 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crnog tela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</a:t>
            </a:r>
            <a:r>
              <a:rPr b="1" lang="sr-R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lanck-ovoj form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Спектроскопиј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09480" y="1219320"/>
            <a:ext cx="1097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Заснива се на интеракцији електромагнетног зрачења и супстанц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Молекул ће апсорбовати фотон ако је његова енергија једнака разлици два енергетска тања у молекули, након тог догађаја мења се стање молекула, расподела електрона, електрични диполни момент, магнетни момент језгра или електрон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 свакој методи спектроскопије могуће су интеракције фотона оних енергија које су одрђене структуром и својствима молекуларног система узорк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17:04:49Z</dcterms:created>
  <dc:creator>Milovan D. Matovic</dc:creator>
  <dc:description/>
  <dc:language>en-US</dc:language>
  <cp:lastModifiedBy>Windows User</cp:lastModifiedBy>
  <dcterms:modified xsi:type="dcterms:W3CDTF">2024-09-02T10:55:53Z</dcterms:modified>
  <cp:revision>360</cp:revision>
  <dc:subject/>
  <dc:title>Slide 1</dc:title>
</cp:coreProperties>
</file>